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ECB-CC7D-4622-AB3F-13D71240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ECF-32AB-4B3D-AB04-B581C347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979-6946-4D19-AAC0-463C3A4A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7D1-3478-4124-B7A2-A83BC926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45E1-1C61-490F-9916-18337529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CBFC-6B44-4C4E-8C94-C02E9026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F767-E19C-443A-AD47-2B7764B6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D761-7E3B-4029-A2C8-72C4EF0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AF97-F4B5-41FB-9496-1A5D7E13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E95D-410D-4001-830D-FA134D7F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B1B5-AD59-4D8A-A326-B79FE965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673-2B00-4181-999D-A31B5BD6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7A3C-15DE-4B7A-9266-58432E8F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C211-3CE3-48F4-BAE6-D5EE05C3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A3B1-2273-41FB-A0A4-5F981AB5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9026-9D7A-4277-ABC9-B8156B64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584A-B898-4795-89B2-E3B61C23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F2F-3531-4C2C-B7E5-DC571201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0D3-FDBD-4DBC-83FA-082E383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C20-C6D3-424E-BADF-FF05BF6B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D20-8769-4B64-AD5D-5757EF5E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6C0-5E6B-466A-AFC8-1434CD9C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90D-1E7A-460F-BADC-1FB5D5BD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751-B778-42ED-A6F5-DE2AD977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0C58-4817-4752-B954-BADA4934D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AB46-74E4-4B7E-A4A8-4CF4E413F1E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Friday, September 18th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from H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Ink 3"/>
          <p:cNvSpPr/>
          <p:nvPr/>
        </p:nvSpPr>
        <p:spPr>
          <a:xfrm>
            <a:off x="2224080" y="1177920"/>
            <a:ext cx="2027160" cy="385920"/>
          </a:xfrm>
          <a:custGeom>
            <a:avLst/>
            <a:gdLst/>
            <a:ahLst/>
            <a:rect l="l" t="t" r="r" b="b"/>
            <a:pathLst>
              <a:path w="5632" h="1068">
                <a:moveTo>
                  <a:pt x="6524" y="3473"/>
                </a:moveTo>
                <a:cubicBezTo>
                  <a:pt x="6496" y="3454"/>
                  <a:pt x="6489" y="3412"/>
                  <a:pt x="6449" y="3373"/>
                </a:cubicBezTo>
                <a:cubicBezTo>
                  <a:pt x="6397" y="3322"/>
                  <a:pt x="6367" y="3357"/>
                  <a:pt x="6325" y="3398"/>
                </a:cubicBezTo>
                <a:cubicBezTo>
                  <a:pt x="6272" y="3451"/>
                  <a:pt x="6273" y="3481"/>
                  <a:pt x="6251" y="3547"/>
                </a:cubicBezTo>
                <a:cubicBezTo>
                  <a:pt x="6228" y="3616"/>
                  <a:pt x="6188" y="3675"/>
                  <a:pt x="6176" y="3746"/>
                </a:cubicBezTo>
                <a:cubicBezTo>
                  <a:pt x="6163" y="3821"/>
                  <a:pt x="6235" y="3913"/>
                  <a:pt x="6276" y="3969"/>
                </a:cubicBezTo>
                <a:cubicBezTo>
                  <a:pt x="6311" y="4017"/>
                  <a:pt x="6421" y="3994"/>
                  <a:pt x="6474" y="3994"/>
                </a:cubicBezTo>
              </a:path>
              <a:path w="5632" h="1068">
                <a:moveTo>
                  <a:pt x="6722" y="3696"/>
                </a:moveTo>
                <a:cubicBezTo>
                  <a:pt x="6706" y="3847"/>
                  <a:pt x="6682" y="3861"/>
                  <a:pt x="6772" y="3944"/>
                </a:cubicBezTo>
                <a:cubicBezTo>
                  <a:pt x="6826" y="3994"/>
                  <a:pt x="6907" y="3971"/>
                  <a:pt x="6970" y="3944"/>
                </a:cubicBezTo>
                <a:cubicBezTo>
                  <a:pt x="7031" y="3918"/>
                  <a:pt x="7063" y="3851"/>
                  <a:pt x="7094" y="3795"/>
                </a:cubicBezTo>
                <a:cubicBezTo>
                  <a:pt x="7161" y="3676"/>
                  <a:pt x="7176" y="3661"/>
                  <a:pt x="7119" y="3547"/>
                </a:cubicBezTo>
                <a:cubicBezTo>
                  <a:pt x="7078" y="3465"/>
                  <a:pt x="7051" y="3456"/>
                  <a:pt x="6970" y="3497"/>
                </a:cubicBezTo>
                <a:cubicBezTo>
                  <a:pt x="6885" y="3539"/>
                  <a:pt x="6864" y="3561"/>
                  <a:pt x="6821" y="3646"/>
                </a:cubicBezTo>
                <a:cubicBezTo>
                  <a:pt x="6793" y="3701"/>
                  <a:pt x="6777" y="3809"/>
                  <a:pt x="6796" y="3870"/>
                </a:cubicBezTo>
                <a:cubicBezTo>
                  <a:pt x="6808" y="3908"/>
                  <a:pt x="6867" y="3932"/>
                  <a:pt x="6896" y="3944"/>
                </a:cubicBezTo>
              </a:path>
              <a:path w="5632" h="1068">
                <a:moveTo>
                  <a:pt x="7491" y="3621"/>
                </a:moveTo>
                <a:cubicBezTo>
                  <a:pt x="7491" y="3720"/>
                  <a:pt x="7491" y="3820"/>
                  <a:pt x="7491" y="3919"/>
                </a:cubicBezTo>
                <a:cubicBezTo>
                  <a:pt x="7491" y="3835"/>
                  <a:pt x="7468" y="3711"/>
                  <a:pt x="7516" y="3646"/>
                </a:cubicBezTo>
                <a:cubicBezTo>
                  <a:pt x="7569" y="3574"/>
                  <a:pt x="7661" y="3544"/>
                  <a:pt x="7739" y="3572"/>
                </a:cubicBezTo>
                <a:cubicBezTo>
                  <a:pt x="7801" y="3594"/>
                  <a:pt x="7810" y="3719"/>
                  <a:pt x="7813" y="3770"/>
                </a:cubicBezTo>
                <a:cubicBezTo>
                  <a:pt x="7813" y="3820"/>
                  <a:pt x="7813" y="3837"/>
                  <a:pt x="7813" y="3870"/>
                </a:cubicBezTo>
                <a:cubicBezTo>
                  <a:pt x="7813" y="3807"/>
                  <a:pt x="7816" y="3721"/>
                  <a:pt x="7863" y="3671"/>
                </a:cubicBezTo>
                <a:cubicBezTo>
                  <a:pt x="7894" y="3637"/>
                  <a:pt x="7951" y="3608"/>
                  <a:pt x="7987" y="3572"/>
                </a:cubicBezTo>
                <a:cubicBezTo>
                  <a:pt x="8050" y="3509"/>
                  <a:pt x="8150" y="3580"/>
                  <a:pt x="8186" y="3646"/>
                </a:cubicBezTo>
                <a:cubicBezTo>
                  <a:pt x="8221" y="3709"/>
                  <a:pt x="8189" y="3804"/>
                  <a:pt x="8210" y="3870"/>
                </a:cubicBezTo>
                <a:cubicBezTo>
                  <a:pt x="8235" y="3949"/>
                  <a:pt x="8252" y="3900"/>
                  <a:pt x="8260" y="3845"/>
                </a:cubicBezTo>
              </a:path>
              <a:path w="5632" h="1068">
                <a:moveTo>
                  <a:pt x="8458" y="3473"/>
                </a:moveTo>
                <a:cubicBezTo>
                  <a:pt x="8442" y="3606"/>
                  <a:pt x="8414" y="3739"/>
                  <a:pt x="8409" y="3870"/>
                </a:cubicBezTo>
                <a:cubicBezTo>
                  <a:pt x="8405" y="3978"/>
                  <a:pt x="8437" y="4362"/>
                  <a:pt x="8384" y="4291"/>
                </a:cubicBezTo>
              </a:path>
              <a:path w="5632" h="1068">
                <a:moveTo>
                  <a:pt x="8359" y="3547"/>
                </a:moveTo>
                <a:cubicBezTo>
                  <a:pt x="8492" y="3445"/>
                  <a:pt x="8520" y="3394"/>
                  <a:pt x="8682" y="3448"/>
                </a:cubicBezTo>
                <a:cubicBezTo>
                  <a:pt x="8761" y="3475"/>
                  <a:pt x="8773" y="3548"/>
                  <a:pt x="8781" y="3621"/>
                </a:cubicBezTo>
                <a:cubicBezTo>
                  <a:pt x="8792" y="3729"/>
                  <a:pt x="8771" y="3774"/>
                  <a:pt x="8682" y="3820"/>
                </a:cubicBezTo>
                <a:cubicBezTo>
                  <a:pt x="8598" y="3864"/>
                  <a:pt x="8407" y="3951"/>
                  <a:pt x="8483" y="3894"/>
                </a:cubicBezTo>
                <a:cubicBezTo>
                  <a:pt x="8500" y="3886"/>
                  <a:pt x="8516" y="3878"/>
                  <a:pt x="8533" y="3870"/>
                </a:cubicBezTo>
              </a:path>
              <a:path w="5632" h="1068">
                <a:moveTo>
                  <a:pt x="9079" y="3274"/>
                </a:moveTo>
                <a:cubicBezTo>
                  <a:pt x="9054" y="3405"/>
                  <a:pt x="9029" y="3514"/>
                  <a:pt x="9029" y="3646"/>
                </a:cubicBezTo>
                <a:cubicBezTo>
                  <a:pt x="9029" y="3738"/>
                  <a:pt x="9030" y="3816"/>
                  <a:pt x="9054" y="3894"/>
                </a:cubicBezTo>
                <a:cubicBezTo>
                  <a:pt x="9054" y="3902"/>
                  <a:pt x="9054" y="3911"/>
                  <a:pt x="9054" y="3919"/>
                </a:cubicBezTo>
              </a:path>
              <a:path w="5632" h="1068">
                <a:moveTo>
                  <a:pt x="9153" y="3770"/>
                </a:moveTo>
                <a:cubicBezTo>
                  <a:pt x="9243" y="3762"/>
                  <a:pt x="9367" y="3731"/>
                  <a:pt x="9451" y="3696"/>
                </a:cubicBezTo>
                <a:cubicBezTo>
                  <a:pt x="9466" y="3690"/>
                  <a:pt x="9567" y="3606"/>
                  <a:pt x="9575" y="3597"/>
                </a:cubicBezTo>
                <a:cubicBezTo>
                  <a:pt x="9596" y="3553"/>
                  <a:pt x="9599" y="3541"/>
                  <a:pt x="9624" y="3522"/>
                </a:cubicBezTo>
                <a:cubicBezTo>
                  <a:pt x="9571" y="3480"/>
                  <a:pt x="9534" y="3450"/>
                  <a:pt x="9475" y="3497"/>
                </a:cubicBezTo>
                <a:cubicBezTo>
                  <a:pt x="9425" y="3537"/>
                  <a:pt x="9329" y="3620"/>
                  <a:pt x="9302" y="3671"/>
                </a:cubicBezTo>
                <a:cubicBezTo>
                  <a:pt x="9277" y="3718"/>
                  <a:pt x="9263" y="3840"/>
                  <a:pt x="9277" y="3894"/>
                </a:cubicBezTo>
                <a:cubicBezTo>
                  <a:pt x="9294" y="3958"/>
                  <a:pt x="9404" y="3956"/>
                  <a:pt x="9451" y="3944"/>
                </a:cubicBezTo>
                <a:cubicBezTo>
                  <a:pt x="9499" y="3931"/>
                  <a:pt x="9554" y="3892"/>
                  <a:pt x="9599" y="3870"/>
                </a:cubicBezTo>
              </a:path>
              <a:path w="5632" h="1068">
                <a:moveTo>
                  <a:pt x="9798" y="3547"/>
                </a:moveTo>
                <a:cubicBezTo>
                  <a:pt x="9783" y="3654"/>
                  <a:pt x="9773" y="3978"/>
                  <a:pt x="9773" y="3870"/>
                </a:cubicBezTo>
                <a:cubicBezTo>
                  <a:pt x="9773" y="3786"/>
                  <a:pt x="9771" y="3723"/>
                  <a:pt x="9798" y="3646"/>
                </a:cubicBezTo>
                <a:cubicBezTo>
                  <a:pt x="9809" y="3614"/>
                  <a:pt x="9853" y="3484"/>
                  <a:pt x="9897" y="3473"/>
                </a:cubicBezTo>
                <a:cubicBezTo>
                  <a:pt x="10006" y="3445"/>
                  <a:pt x="10021" y="3503"/>
                  <a:pt x="10046" y="3572"/>
                </a:cubicBezTo>
                <a:cubicBezTo>
                  <a:pt x="10071" y="3642"/>
                  <a:pt x="10071" y="3694"/>
                  <a:pt x="10071" y="3770"/>
                </a:cubicBezTo>
                <a:cubicBezTo>
                  <a:pt x="10071" y="3787"/>
                  <a:pt x="10071" y="3803"/>
                  <a:pt x="10071" y="3820"/>
                </a:cubicBezTo>
                <a:cubicBezTo>
                  <a:pt x="10032" y="3756"/>
                  <a:pt x="10052" y="3666"/>
                  <a:pt x="10096" y="3597"/>
                </a:cubicBezTo>
                <a:cubicBezTo>
                  <a:pt x="10155" y="3504"/>
                  <a:pt x="10215" y="3457"/>
                  <a:pt x="10319" y="3497"/>
                </a:cubicBezTo>
                <a:cubicBezTo>
                  <a:pt x="10354" y="3510"/>
                  <a:pt x="10412" y="3637"/>
                  <a:pt x="10418" y="3671"/>
                </a:cubicBezTo>
                <a:cubicBezTo>
                  <a:pt x="10431" y="3744"/>
                  <a:pt x="10408" y="3762"/>
                  <a:pt x="10443" y="3820"/>
                </a:cubicBezTo>
              </a:path>
              <a:path w="5632" h="1068">
                <a:moveTo>
                  <a:pt x="10567" y="3696"/>
                </a:moveTo>
                <a:cubicBezTo>
                  <a:pt x="10633" y="3662"/>
                  <a:pt x="10705" y="3658"/>
                  <a:pt x="10765" y="3621"/>
                </a:cubicBezTo>
                <a:cubicBezTo>
                  <a:pt x="10817" y="3590"/>
                  <a:pt x="10853" y="3530"/>
                  <a:pt x="10864" y="3473"/>
                </a:cubicBezTo>
                <a:cubicBezTo>
                  <a:pt x="10864" y="3428"/>
                  <a:pt x="10868" y="3415"/>
                  <a:pt x="10840" y="3398"/>
                </a:cubicBezTo>
                <a:cubicBezTo>
                  <a:pt x="10727" y="3429"/>
                  <a:pt x="10650" y="3467"/>
                  <a:pt x="10592" y="3572"/>
                </a:cubicBezTo>
                <a:cubicBezTo>
                  <a:pt x="10562" y="3626"/>
                  <a:pt x="10482" y="3704"/>
                  <a:pt x="10492" y="3770"/>
                </a:cubicBezTo>
                <a:cubicBezTo>
                  <a:pt x="10507" y="3869"/>
                  <a:pt x="10598" y="3861"/>
                  <a:pt x="10666" y="3845"/>
                </a:cubicBezTo>
                <a:cubicBezTo>
                  <a:pt x="10743" y="3825"/>
                  <a:pt x="10761" y="3833"/>
                  <a:pt x="10790" y="3795"/>
                </a:cubicBezTo>
              </a:path>
              <a:path w="5632" h="1068">
                <a:moveTo>
                  <a:pt x="10988" y="3597"/>
                </a:moveTo>
                <a:cubicBezTo>
                  <a:pt x="10968" y="3700"/>
                  <a:pt x="10964" y="3789"/>
                  <a:pt x="10964" y="3894"/>
                </a:cubicBezTo>
                <a:cubicBezTo>
                  <a:pt x="10983" y="3815"/>
                  <a:pt x="10970" y="3715"/>
                  <a:pt x="11013" y="3646"/>
                </a:cubicBezTo>
                <a:cubicBezTo>
                  <a:pt x="11034" y="3612"/>
                  <a:pt x="11092" y="3510"/>
                  <a:pt x="11137" y="3497"/>
                </a:cubicBezTo>
                <a:cubicBezTo>
                  <a:pt x="11224" y="3472"/>
                  <a:pt x="11228" y="3565"/>
                  <a:pt x="11237" y="3621"/>
                </a:cubicBezTo>
                <a:cubicBezTo>
                  <a:pt x="11248" y="3692"/>
                  <a:pt x="11253" y="3829"/>
                  <a:pt x="11286" y="3894"/>
                </a:cubicBezTo>
                <a:cubicBezTo>
                  <a:pt x="11324" y="3970"/>
                  <a:pt x="11387" y="3929"/>
                  <a:pt x="11435" y="3894"/>
                </a:cubicBezTo>
                <a:cubicBezTo>
                  <a:pt x="11500" y="3846"/>
                  <a:pt x="11519" y="3790"/>
                  <a:pt x="11559" y="3721"/>
                </a:cubicBezTo>
              </a:path>
              <a:path w="5632" h="1068">
                <a:moveTo>
                  <a:pt x="11633" y="3274"/>
                </a:moveTo>
                <a:cubicBezTo>
                  <a:pt x="11633" y="3419"/>
                  <a:pt x="11640" y="3559"/>
                  <a:pt x="11658" y="3696"/>
                </a:cubicBezTo>
                <a:cubicBezTo>
                  <a:pt x="11668" y="3769"/>
                  <a:pt x="11692" y="3808"/>
                  <a:pt x="11708" y="3870"/>
                </a:cubicBezTo>
              </a:path>
              <a:path w="5632" h="1068">
                <a:moveTo>
                  <a:pt x="11460" y="3646"/>
                </a:moveTo>
                <a:cubicBezTo>
                  <a:pt x="11546" y="3636"/>
                  <a:pt x="11619" y="3621"/>
                  <a:pt x="11708" y="3621"/>
                </a:cubicBezTo>
                <a:cubicBezTo>
                  <a:pt x="11759" y="3621"/>
                  <a:pt x="11777" y="3620"/>
                  <a:pt x="11807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Ink 4"/>
          <p:cNvSpPr/>
          <p:nvPr/>
        </p:nvSpPr>
        <p:spPr>
          <a:xfrm>
            <a:off x="5313240" y="1160640"/>
            <a:ext cx="1812960" cy="358560"/>
          </a:xfrm>
          <a:custGeom>
            <a:avLst/>
            <a:gdLst/>
            <a:ahLst/>
            <a:rect l="l" t="t" r="r" b="b"/>
            <a:pathLst>
              <a:path w="5036" h="993">
                <a:moveTo>
                  <a:pt x="15255" y="3398"/>
                </a:moveTo>
                <a:cubicBezTo>
                  <a:pt x="15195" y="3338"/>
                  <a:pt x="15169" y="3328"/>
                  <a:pt x="15081" y="3324"/>
                </a:cubicBezTo>
                <a:cubicBezTo>
                  <a:pt x="15014" y="3321"/>
                  <a:pt x="14956" y="3354"/>
                  <a:pt x="14908" y="3398"/>
                </a:cubicBezTo>
                <a:cubicBezTo>
                  <a:pt x="14842" y="3458"/>
                  <a:pt x="14791" y="3448"/>
                  <a:pt x="14759" y="3522"/>
                </a:cubicBezTo>
                <a:cubicBezTo>
                  <a:pt x="14803" y="3575"/>
                  <a:pt x="14855" y="3584"/>
                  <a:pt x="14932" y="3597"/>
                </a:cubicBezTo>
                <a:cubicBezTo>
                  <a:pt x="15059" y="3618"/>
                  <a:pt x="15094" y="3651"/>
                  <a:pt x="15205" y="3721"/>
                </a:cubicBezTo>
                <a:cubicBezTo>
                  <a:pt x="15253" y="3751"/>
                  <a:pt x="15329" y="3814"/>
                  <a:pt x="15255" y="3870"/>
                </a:cubicBezTo>
                <a:cubicBezTo>
                  <a:pt x="15200" y="3911"/>
                  <a:pt x="15122" y="3940"/>
                  <a:pt x="15056" y="3944"/>
                </a:cubicBezTo>
                <a:cubicBezTo>
                  <a:pt x="14974" y="3949"/>
                  <a:pt x="14903" y="3944"/>
                  <a:pt x="14957" y="3845"/>
                </a:cubicBezTo>
                <a:cubicBezTo>
                  <a:pt x="14965" y="3837"/>
                  <a:pt x="14974" y="3828"/>
                  <a:pt x="14982" y="3820"/>
                </a:cubicBezTo>
              </a:path>
              <a:path w="5036" h="993">
                <a:moveTo>
                  <a:pt x="15429" y="3646"/>
                </a:moveTo>
                <a:cubicBezTo>
                  <a:pt x="15433" y="3669"/>
                  <a:pt x="15455" y="3904"/>
                  <a:pt x="15528" y="3919"/>
                </a:cubicBezTo>
                <a:cubicBezTo>
                  <a:pt x="15606" y="3935"/>
                  <a:pt x="15660" y="3909"/>
                  <a:pt x="15701" y="3845"/>
                </a:cubicBezTo>
                <a:cubicBezTo>
                  <a:pt x="15743" y="3779"/>
                  <a:pt x="15726" y="3696"/>
                  <a:pt x="15726" y="3621"/>
                </a:cubicBezTo>
                <a:cubicBezTo>
                  <a:pt x="15726" y="3691"/>
                  <a:pt x="15711" y="3765"/>
                  <a:pt x="15751" y="3820"/>
                </a:cubicBezTo>
                <a:cubicBezTo>
                  <a:pt x="15773" y="3851"/>
                  <a:pt x="15842" y="3912"/>
                  <a:pt x="15875" y="3919"/>
                </a:cubicBezTo>
                <a:cubicBezTo>
                  <a:pt x="15979" y="3940"/>
                  <a:pt x="16044" y="3867"/>
                  <a:pt x="16098" y="3795"/>
                </a:cubicBezTo>
              </a:path>
              <a:path w="5036" h="993">
                <a:moveTo>
                  <a:pt x="16098" y="3597"/>
                </a:moveTo>
                <a:cubicBezTo>
                  <a:pt x="16098" y="3736"/>
                  <a:pt x="16105" y="3838"/>
                  <a:pt x="16123" y="3969"/>
                </a:cubicBezTo>
                <a:cubicBezTo>
                  <a:pt x="16132" y="4036"/>
                  <a:pt x="16144" y="4102"/>
                  <a:pt x="16148" y="4167"/>
                </a:cubicBezTo>
                <a:cubicBezTo>
                  <a:pt x="16148" y="4184"/>
                  <a:pt x="16148" y="4200"/>
                  <a:pt x="16148" y="4217"/>
                </a:cubicBezTo>
                <a:cubicBezTo>
                  <a:pt x="16105" y="4153"/>
                  <a:pt x="16102" y="4082"/>
                  <a:pt x="16073" y="4018"/>
                </a:cubicBezTo>
                <a:cubicBezTo>
                  <a:pt x="16047" y="3961"/>
                  <a:pt x="16049" y="3914"/>
                  <a:pt x="16049" y="3845"/>
                </a:cubicBezTo>
                <a:cubicBezTo>
                  <a:pt x="16049" y="3743"/>
                  <a:pt x="16057" y="3633"/>
                  <a:pt x="16148" y="3572"/>
                </a:cubicBezTo>
                <a:cubicBezTo>
                  <a:pt x="16184" y="3548"/>
                  <a:pt x="16298" y="3495"/>
                  <a:pt x="16346" y="3522"/>
                </a:cubicBezTo>
                <a:cubicBezTo>
                  <a:pt x="16426" y="3567"/>
                  <a:pt x="16421" y="3644"/>
                  <a:pt x="16421" y="3721"/>
                </a:cubicBezTo>
                <a:cubicBezTo>
                  <a:pt x="16421" y="3817"/>
                  <a:pt x="16384" y="3818"/>
                  <a:pt x="16321" y="3870"/>
                </a:cubicBezTo>
                <a:cubicBezTo>
                  <a:pt x="16269" y="3912"/>
                  <a:pt x="16160" y="4002"/>
                  <a:pt x="16098" y="3919"/>
                </a:cubicBezTo>
                <a:cubicBezTo>
                  <a:pt x="16098" y="3884"/>
                  <a:pt x="16103" y="3867"/>
                  <a:pt x="16123" y="3845"/>
                </a:cubicBezTo>
              </a:path>
              <a:path w="5036" h="993">
                <a:moveTo>
                  <a:pt x="16520" y="3621"/>
                </a:moveTo>
                <a:cubicBezTo>
                  <a:pt x="16537" y="3789"/>
                  <a:pt x="16570" y="3951"/>
                  <a:pt x="16570" y="4118"/>
                </a:cubicBezTo>
                <a:cubicBezTo>
                  <a:pt x="16570" y="4177"/>
                  <a:pt x="16625" y="4221"/>
                  <a:pt x="16570" y="4192"/>
                </a:cubicBezTo>
              </a:path>
              <a:path w="5036" h="993">
                <a:moveTo>
                  <a:pt x="16446" y="3597"/>
                </a:moveTo>
                <a:cubicBezTo>
                  <a:pt x="16581" y="3501"/>
                  <a:pt x="16625" y="3445"/>
                  <a:pt x="16743" y="3597"/>
                </a:cubicBezTo>
                <a:cubicBezTo>
                  <a:pt x="16797" y="3666"/>
                  <a:pt x="16823" y="3787"/>
                  <a:pt x="16743" y="3845"/>
                </a:cubicBezTo>
                <a:cubicBezTo>
                  <a:pt x="16709" y="3870"/>
                  <a:pt x="16645" y="3972"/>
                  <a:pt x="16594" y="3969"/>
                </a:cubicBezTo>
                <a:cubicBezTo>
                  <a:pt x="16477" y="3962"/>
                  <a:pt x="16551" y="3870"/>
                  <a:pt x="16570" y="3820"/>
                </a:cubicBezTo>
              </a:path>
              <a:path w="5036" h="993">
                <a:moveTo>
                  <a:pt x="17041" y="3225"/>
                </a:moveTo>
                <a:cubicBezTo>
                  <a:pt x="17041" y="3473"/>
                  <a:pt x="17041" y="3721"/>
                  <a:pt x="17041" y="3969"/>
                </a:cubicBezTo>
              </a:path>
              <a:path w="5036" h="993">
                <a:moveTo>
                  <a:pt x="17165" y="3795"/>
                </a:moveTo>
                <a:cubicBezTo>
                  <a:pt x="17229" y="3763"/>
                  <a:pt x="17305" y="3737"/>
                  <a:pt x="17363" y="3696"/>
                </a:cubicBezTo>
                <a:cubicBezTo>
                  <a:pt x="17414" y="3660"/>
                  <a:pt x="17468" y="3656"/>
                  <a:pt x="17512" y="3621"/>
                </a:cubicBezTo>
                <a:cubicBezTo>
                  <a:pt x="17547" y="3588"/>
                  <a:pt x="17555" y="3566"/>
                  <a:pt x="17537" y="3522"/>
                </a:cubicBezTo>
                <a:cubicBezTo>
                  <a:pt x="17427" y="3485"/>
                  <a:pt x="17361" y="3498"/>
                  <a:pt x="17264" y="3572"/>
                </a:cubicBezTo>
                <a:cubicBezTo>
                  <a:pt x="17207" y="3616"/>
                  <a:pt x="17133" y="3726"/>
                  <a:pt x="17115" y="3795"/>
                </a:cubicBezTo>
                <a:cubicBezTo>
                  <a:pt x="17097" y="3862"/>
                  <a:pt x="17122" y="3921"/>
                  <a:pt x="17165" y="3969"/>
                </a:cubicBezTo>
                <a:cubicBezTo>
                  <a:pt x="17209" y="4018"/>
                  <a:pt x="17360" y="4007"/>
                  <a:pt x="17413" y="3969"/>
                </a:cubicBezTo>
                <a:cubicBezTo>
                  <a:pt x="17446" y="3936"/>
                  <a:pt x="17479" y="3903"/>
                  <a:pt x="17512" y="3870"/>
                </a:cubicBezTo>
              </a:path>
              <a:path w="5036" h="993">
                <a:moveTo>
                  <a:pt x="17587" y="3646"/>
                </a:moveTo>
                <a:cubicBezTo>
                  <a:pt x="17587" y="3755"/>
                  <a:pt x="17570" y="3869"/>
                  <a:pt x="17611" y="3969"/>
                </a:cubicBezTo>
                <a:cubicBezTo>
                  <a:pt x="17611" y="3872"/>
                  <a:pt x="17622" y="3787"/>
                  <a:pt x="17636" y="3696"/>
                </a:cubicBezTo>
                <a:cubicBezTo>
                  <a:pt x="17652" y="3594"/>
                  <a:pt x="17700" y="3551"/>
                  <a:pt x="17785" y="3497"/>
                </a:cubicBezTo>
                <a:cubicBezTo>
                  <a:pt x="17827" y="3550"/>
                  <a:pt x="17853" y="3610"/>
                  <a:pt x="17884" y="3671"/>
                </a:cubicBezTo>
                <a:cubicBezTo>
                  <a:pt x="17927" y="3758"/>
                  <a:pt x="17934" y="3824"/>
                  <a:pt x="17934" y="3919"/>
                </a:cubicBezTo>
                <a:cubicBezTo>
                  <a:pt x="17934" y="3824"/>
                  <a:pt x="17929" y="3738"/>
                  <a:pt x="17959" y="3646"/>
                </a:cubicBezTo>
                <a:cubicBezTo>
                  <a:pt x="17984" y="3569"/>
                  <a:pt x="18056" y="3545"/>
                  <a:pt x="18132" y="3572"/>
                </a:cubicBezTo>
                <a:cubicBezTo>
                  <a:pt x="18212" y="3601"/>
                  <a:pt x="18167" y="3715"/>
                  <a:pt x="18182" y="3770"/>
                </a:cubicBezTo>
                <a:cubicBezTo>
                  <a:pt x="18200" y="3836"/>
                  <a:pt x="18220" y="3899"/>
                  <a:pt x="18231" y="3969"/>
                </a:cubicBezTo>
              </a:path>
              <a:path w="5036" h="993">
                <a:moveTo>
                  <a:pt x="18331" y="3746"/>
                </a:moveTo>
                <a:cubicBezTo>
                  <a:pt x="18425" y="3719"/>
                  <a:pt x="18475" y="3693"/>
                  <a:pt x="18554" y="3646"/>
                </a:cubicBezTo>
                <a:cubicBezTo>
                  <a:pt x="18636" y="3597"/>
                  <a:pt x="18642" y="3571"/>
                  <a:pt x="18653" y="3473"/>
                </a:cubicBezTo>
                <a:cubicBezTo>
                  <a:pt x="18524" y="3473"/>
                  <a:pt x="18540" y="3483"/>
                  <a:pt x="18455" y="3572"/>
                </a:cubicBezTo>
                <a:cubicBezTo>
                  <a:pt x="18381" y="3650"/>
                  <a:pt x="18336" y="3650"/>
                  <a:pt x="18331" y="3770"/>
                </a:cubicBezTo>
                <a:cubicBezTo>
                  <a:pt x="18329" y="3819"/>
                  <a:pt x="18321" y="3939"/>
                  <a:pt x="18380" y="3969"/>
                </a:cubicBezTo>
                <a:cubicBezTo>
                  <a:pt x="18424" y="3991"/>
                  <a:pt x="18522" y="3970"/>
                  <a:pt x="18554" y="3944"/>
                </a:cubicBezTo>
                <a:cubicBezTo>
                  <a:pt x="18562" y="3936"/>
                  <a:pt x="18571" y="3927"/>
                  <a:pt x="18579" y="3919"/>
                </a:cubicBezTo>
              </a:path>
              <a:path w="5036" h="993">
                <a:moveTo>
                  <a:pt x="18752" y="3671"/>
                </a:moveTo>
                <a:cubicBezTo>
                  <a:pt x="18752" y="3737"/>
                  <a:pt x="18752" y="3804"/>
                  <a:pt x="18752" y="3870"/>
                </a:cubicBezTo>
                <a:cubicBezTo>
                  <a:pt x="18752" y="4004"/>
                  <a:pt x="18752" y="3768"/>
                  <a:pt x="18752" y="3746"/>
                </a:cubicBezTo>
                <a:cubicBezTo>
                  <a:pt x="18752" y="3669"/>
                  <a:pt x="18748" y="3609"/>
                  <a:pt x="18802" y="3547"/>
                </a:cubicBezTo>
                <a:cubicBezTo>
                  <a:pt x="18848" y="3501"/>
                  <a:pt x="18860" y="3487"/>
                  <a:pt x="18901" y="3473"/>
                </a:cubicBezTo>
                <a:cubicBezTo>
                  <a:pt x="18957" y="3527"/>
                  <a:pt x="18960" y="3554"/>
                  <a:pt x="19000" y="3621"/>
                </a:cubicBezTo>
                <a:cubicBezTo>
                  <a:pt x="19046" y="3698"/>
                  <a:pt x="19048" y="3788"/>
                  <a:pt x="19075" y="3870"/>
                </a:cubicBezTo>
                <a:cubicBezTo>
                  <a:pt x="19113" y="3983"/>
                  <a:pt x="19178" y="3756"/>
                  <a:pt x="19224" y="3646"/>
                </a:cubicBezTo>
              </a:path>
              <a:path w="5036" h="993">
                <a:moveTo>
                  <a:pt x="19447" y="3274"/>
                </a:moveTo>
                <a:cubicBezTo>
                  <a:pt x="19447" y="3419"/>
                  <a:pt x="19397" y="3631"/>
                  <a:pt x="19422" y="3770"/>
                </a:cubicBezTo>
                <a:cubicBezTo>
                  <a:pt x="19446" y="3818"/>
                  <a:pt x="19454" y="3833"/>
                  <a:pt x="19447" y="3870"/>
                </a:cubicBezTo>
              </a:path>
              <a:path w="5036" h="993">
                <a:moveTo>
                  <a:pt x="19298" y="3621"/>
                </a:moveTo>
                <a:cubicBezTo>
                  <a:pt x="19369" y="3629"/>
                  <a:pt x="19452" y="3631"/>
                  <a:pt x="19521" y="3646"/>
                </a:cubicBezTo>
                <a:cubicBezTo>
                  <a:pt x="19614" y="3666"/>
                  <a:pt x="19706" y="3666"/>
                  <a:pt x="19794" y="36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Ink 5"/>
          <p:cNvSpPr/>
          <p:nvPr/>
        </p:nvSpPr>
        <p:spPr>
          <a:xfrm>
            <a:off x="2089080" y="1589040"/>
            <a:ext cx="2786040" cy="546120"/>
          </a:xfrm>
          <a:custGeom>
            <a:avLst/>
            <a:gdLst/>
            <a:ahLst/>
            <a:rect l="l" t="t" r="r" b="b"/>
            <a:pathLst>
              <a:path w="7740" h="1514">
                <a:moveTo>
                  <a:pt x="6276" y="4465"/>
                </a:moveTo>
                <a:cubicBezTo>
                  <a:pt x="6349" y="4465"/>
                  <a:pt x="6416" y="4449"/>
                  <a:pt x="6474" y="4440"/>
                </a:cubicBezTo>
                <a:cubicBezTo>
                  <a:pt x="6573" y="4425"/>
                  <a:pt x="6676" y="4431"/>
                  <a:pt x="6772" y="4415"/>
                </a:cubicBezTo>
                <a:cubicBezTo>
                  <a:pt x="6788" y="4415"/>
                  <a:pt x="6805" y="4415"/>
                  <a:pt x="6821" y="4415"/>
                </a:cubicBezTo>
              </a:path>
              <a:path w="7740" h="1514">
                <a:moveTo>
                  <a:pt x="6424" y="4490"/>
                </a:moveTo>
                <a:cubicBezTo>
                  <a:pt x="6470" y="4558"/>
                  <a:pt x="6474" y="4607"/>
                  <a:pt x="6474" y="4688"/>
                </a:cubicBezTo>
                <a:cubicBezTo>
                  <a:pt x="6474" y="4732"/>
                  <a:pt x="6448" y="4962"/>
                  <a:pt x="6499" y="4961"/>
                </a:cubicBezTo>
                <a:cubicBezTo>
                  <a:pt x="6499" y="4953"/>
                  <a:pt x="6499" y="4944"/>
                  <a:pt x="6499" y="4936"/>
                </a:cubicBezTo>
              </a:path>
              <a:path w="7740" h="1514">
                <a:moveTo>
                  <a:pt x="6697" y="4514"/>
                </a:moveTo>
                <a:cubicBezTo>
                  <a:pt x="6697" y="4627"/>
                  <a:pt x="6676" y="4759"/>
                  <a:pt x="6722" y="4862"/>
                </a:cubicBezTo>
                <a:cubicBezTo>
                  <a:pt x="6755" y="4934"/>
                  <a:pt x="6828" y="4921"/>
                  <a:pt x="6796" y="4986"/>
                </a:cubicBezTo>
              </a:path>
              <a:path w="7740" h="1514">
                <a:moveTo>
                  <a:pt x="6276" y="5085"/>
                </a:moveTo>
                <a:cubicBezTo>
                  <a:pt x="6355" y="5063"/>
                  <a:pt x="6446" y="5045"/>
                  <a:pt x="6524" y="5035"/>
                </a:cubicBezTo>
                <a:cubicBezTo>
                  <a:pt x="6598" y="5026"/>
                  <a:pt x="6675" y="5014"/>
                  <a:pt x="6747" y="5011"/>
                </a:cubicBezTo>
                <a:cubicBezTo>
                  <a:pt x="6812" y="5008"/>
                  <a:pt x="6879" y="5011"/>
                  <a:pt x="6945" y="5011"/>
                </a:cubicBezTo>
              </a:path>
              <a:path w="7740" h="1514">
                <a:moveTo>
                  <a:pt x="6474" y="5259"/>
                </a:moveTo>
                <a:cubicBezTo>
                  <a:pt x="6524" y="5229"/>
                  <a:pt x="6574" y="5233"/>
                  <a:pt x="6623" y="5209"/>
                </a:cubicBezTo>
                <a:cubicBezTo>
                  <a:pt x="6670" y="5185"/>
                  <a:pt x="6688" y="5184"/>
                  <a:pt x="6747" y="5184"/>
                </a:cubicBezTo>
                <a:cubicBezTo>
                  <a:pt x="6736" y="5261"/>
                  <a:pt x="6701" y="5245"/>
                  <a:pt x="6672" y="5308"/>
                </a:cubicBezTo>
                <a:cubicBezTo>
                  <a:pt x="6641" y="5374"/>
                  <a:pt x="6617" y="5423"/>
                  <a:pt x="6573" y="5482"/>
                </a:cubicBezTo>
                <a:cubicBezTo>
                  <a:pt x="6533" y="5536"/>
                  <a:pt x="6515" y="5542"/>
                  <a:pt x="6499" y="5606"/>
                </a:cubicBezTo>
                <a:cubicBezTo>
                  <a:pt x="6576" y="5645"/>
                  <a:pt x="6615" y="5611"/>
                  <a:pt x="6697" y="5606"/>
                </a:cubicBezTo>
                <a:cubicBezTo>
                  <a:pt x="6776" y="5602"/>
                  <a:pt x="6802" y="5575"/>
                  <a:pt x="6871" y="5531"/>
                </a:cubicBezTo>
              </a:path>
              <a:path w="7740" h="1514">
                <a:moveTo>
                  <a:pt x="7169" y="5060"/>
                </a:moveTo>
                <a:cubicBezTo>
                  <a:pt x="7302" y="5060"/>
                  <a:pt x="7414" y="5053"/>
                  <a:pt x="7541" y="5035"/>
                </a:cubicBezTo>
                <a:cubicBezTo>
                  <a:pt x="7604" y="5026"/>
                  <a:pt x="7675" y="5035"/>
                  <a:pt x="7739" y="5035"/>
                </a:cubicBezTo>
              </a:path>
              <a:path w="7740" h="1514">
                <a:moveTo>
                  <a:pt x="7938" y="4514"/>
                </a:moveTo>
                <a:cubicBezTo>
                  <a:pt x="8001" y="4505"/>
                  <a:pt x="8041" y="4490"/>
                  <a:pt x="8111" y="4490"/>
                </a:cubicBezTo>
                <a:cubicBezTo>
                  <a:pt x="8193" y="4490"/>
                  <a:pt x="8254" y="4469"/>
                  <a:pt x="8334" y="4465"/>
                </a:cubicBezTo>
                <a:cubicBezTo>
                  <a:pt x="8412" y="4461"/>
                  <a:pt x="8478" y="4440"/>
                  <a:pt x="8558" y="4440"/>
                </a:cubicBezTo>
              </a:path>
              <a:path w="7740" h="1514">
                <a:moveTo>
                  <a:pt x="8210" y="4490"/>
                </a:moveTo>
                <a:cubicBezTo>
                  <a:pt x="8218" y="4546"/>
                  <a:pt x="8253" y="4600"/>
                  <a:pt x="8235" y="4663"/>
                </a:cubicBezTo>
                <a:cubicBezTo>
                  <a:pt x="8214" y="4737"/>
                  <a:pt x="8229" y="4813"/>
                  <a:pt x="8210" y="4887"/>
                </a:cubicBezTo>
                <a:cubicBezTo>
                  <a:pt x="8195" y="4945"/>
                  <a:pt x="8147" y="5067"/>
                  <a:pt x="8260" y="5011"/>
                </a:cubicBezTo>
                <a:cubicBezTo>
                  <a:pt x="8268" y="5003"/>
                  <a:pt x="8277" y="4994"/>
                  <a:pt x="8285" y="4986"/>
                </a:cubicBezTo>
              </a:path>
              <a:path w="7740" h="1514">
                <a:moveTo>
                  <a:pt x="8458" y="4663"/>
                </a:moveTo>
                <a:cubicBezTo>
                  <a:pt x="8428" y="4756"/>
                  <a:pt x="8401" y="4804"/>
                  <a:pt x="8434" y="4887"/>
                </a:cubicBezTo>
                <a:cubicBezTo>
                  <a:pt x="8458" y="4948"/>
                  <a:pt x="8502" y="5027"/>
                  <a:pt x="8558" y="5060"/>
                </a:cubicBezTo>
                <a:cubicBezTo>
                  <a:pt x="8613" y="5093"/>
                  <a:pt x="8671" y="5085"/>
                  <a:pt x="8731" y="5085"/>
                </a:cubicBezTo>
              </a:path>
              <a:path w="7740" h="1514">
                <a:moveTo>
                  <a:pt x="8086" y="5110"/>
                </a:moveTo>
                <a:cubicBezTo>
                  <a:pt x="8164" y="5149"/>
                  <a:pt x="8199" y="5113"/>
                  <a:pt x="8285" y="5110"/>
                </a:cubicBezTo>
                <a:cubicBezTo>
                  <a:pt x="8428" y="5104"/>
                  <a:pt x="8566" y="5103"/>
                  <a:pt x="8706" y="5085"/>
                </a:cubicBezTo>
                <a:cubicBezTo>
                  <a:pt x="8751" y="5085"/>
                  <a:pt x="8764" y="5082"/>
                  <a:pt x="8781" y="5110"/>
                </a:cubicBezTo>
              </a:path>
              <a:path w="7740" h="1514">
                <a:moveTo>
                  <a:pt x="8260" y="5358"/>
                </a:moveTo>
                <a:cubicBezTo>
                  <a:pt x="8369" y="5288"/>
                  <a:pt x="8427" y="5264"/>
                  <a:pt x="8558" y="5259"/>
                </a:cubicBezTo>
                <a:cubicBezTo>
                  <a:pt x="8602" y="5259"/>
                  <a:pt x="8615" y="5256"/>
                  <a:pt x="8632" y="5283"/>
                </a:cubicBezTo>
                <a:cubicBezTo>
                  <a:pt x="8602" y="5335"/>
                  <a:pt x="8573" y="5387"/>
                  <a:pt x="8533" y="5432"/>
                </a:cubicBezTo>
                <a:cubicBezTo>
                  <a:pt x="8499" y="5469"/>
                  <a:pt x="8452" y="5498"/>
                  <a:pt x="8409" y="5507"/>
                </a:cubicBezTo>
                <a:cubicBezTo>
                  <a:pt x="8392" y="5507"/>
                  <a:pt x="8376" y="5507"/>
                  <a:pt x="8359" y="5507"/>
                </a:cubicBezTo>
                <a:cubicBezTo>
                  <a:pt x="8434" y="5507"/>
                  <a:pt x="8516" y="5491"/>
                  <a:pt x="8582" y="5531"/>
                </a:cubicBezTo>
                <a:cubicBezTo>
                  <a:pt x="8622" y="5556"/>
                  <a:pt x="8669" y="5606"/>
                  <a:pt x="8657" y="5655"/>
                </a:cubicBezTo>
                <a:cubicBezTo>
                  <a:pt x="8639" y="5732"/>
                  <a:pt x="8576" y="5751"/>
                  <a:pt x="8508" y="5755"/>
                </a:cubicBezTo>
                <a:cubicBezTo>
                  <a:pt x="8415" y="5760"/>
                  <a:pt x="8312" y="5734"/>
                  <a:pt x="8235" y="5779"/>
                </a:cubicBezTo>
              </a:path>
              <a:path w="7740" h="1514">
                <a:moveTo>
                  <a:pt x="6300" y="5606"/>
                </a:moveTo>
                <a:lnTo>
                  <a:pt x="6300" y="5606"/>
                </a:lnTo>
              </a:path>
              <a:path w="7740" h="1514">
                <a:moveTo>
                  <a:pt x="5928" y="5457"/>
                </a:moveTo>
                <a:cubicBezTo>
                  <a:pt x="5956" y="5429"/>
                  <a:pt x="6019" y="5379"/>
                  <a:pt x="6052" y="5383"/>
                </a:cubicBezTo>
                <a:cubicBezTo>
                  <a:pt x="6154" y="5396"/>
                  <a:pt x="6084" y="5510"/>
                  <a:pt x="6052" y="5556"/>
                </a:cubicBezTo>
                <a:cubicBezTo>
                  <a:pt x="6033" y="5583"/>
                  <a:pt x="6001" y="5608"/>
                  <a:pt x="5978" y="5631"/>
                </a:cubicBezTo>
                <a:cubicBezTo>
                  <a:pt x="6040" y="5667"/>
                  <a:pt x="6120" y="5643"/>
                  <a:pt x="6176" y="5705"/>
                </a:cubicBezTo>
                <a:cubicBezTo>
                  <a:pt x="6247" y="5785"/>
                  <a:pt x="6238" y="5815"/>
                  <a:pt x="6176" y="5879"/>
                </a:cubicBezTo>
                <a:cubicBezTo>
                  <a:pt x="6140" y="5916"/>
                  <a:pt x="6083" y="5939"/>
                  <a:pt x="6028" y="5928"/>
                </a:cubicBezTo>
                <a:cubicBezTo>
                  <a:pt x="6011" y="5920"/>
                  <a:pt x="5995" y="5912"/>
                  <a:pt x="5978" y="5904"/>
                </a:cubicBezTo>
              </a:path>
              <a:path w="7740" h="1514">
                <a:moveTo>
                  <a:pt x="6127" y="4961"/>
                </a:moveTo>
                <a:lnTo>
                  <a:pt x="6127" y="4961"/>
                </a:lnTo>
              </a:path>
              <a:path w="7740" h="1514">
                <a:moveTo>
                  <a:pt x="5804" y="4713"/>
                </a:moveTo>
                <a:cubicBezTo>
                  <a:pt x="5855" y="4675"/>
                  <a:pt x="5905" y="4625"/>
                  <a:pt x="5953" y="4663"/>
                </a:cubicBezTo>
                <a:cubicBezTo>
                  <a:pt x="6010" y="4707"/>
                  <a:pt x="5960" y="4768"/>
                  <a:pt x="5928" y="4812"/>
                </a:cubicBezTo>
                <a:cubicBezTo>
                  <a:pt x="5920" y="4820"/>
                  <a:pt x="5912" y="4829"/>
                  <a:pt x="5904" y="4837"/>
                </a:cubicBezTo>
                <a:cubicBezTo>
                  <a:pt x="5946" y="4863"/>
                  <a:pt x="6054" y="4856"/>
                  <a:pt x="6077" y="4911"/>
                </a:cubicBezTo>
                <a:cubicBezTo>
                  <a:pt x="6107" y="4980"/>
                  <a:pt x="5992" y="5000"/>
                  <a:pt x="5953" y="5035"/>
                </a:cubicBezTo>
                <a:cubicBezTo>
                  <a:pt x="5945" y="5043"/>
                  <a:pt x="5936" y="5052"/>
                  <a:pt x="5928" y="5060"/>
                </a:cubicBezTo>
              </a:path>
              <a:path w="7740" h="1514">
                <a:moveTo>
                  <a:pt x="8682" y="4887"/>
                </a:moveTo>
                <a:cubicBezTo>
                  <a:pt x="8698" y="4887"/>
                  <a:pt x="8715" y="4887"/>
                  <a:pt x="8731" y="4887"/>
                </a:cubicBezTo>
              </a:path>
              <a:path w="7740" h="1514">
                <a:moveTo>
                  <a:pt x="8781" y="4638"/>
                </a:moveTo>
                <a:cubicBezTo>
                  <a:pt x="8808" y="4583"/>
                  <a:pt x="8858" y="4504"/>
                  <a:pt x="8930" y="4514"/>
                </a:cubicBezTo>
                <a:cubicBezTo>
                  <a:pt x="8946" y="4522"/>
                  <a:pt x="8963" y="4531"/>
                  <a:pt x="8979" y="4539"/>
                </a:cubicBezTo>
                <a:cubicBezTo>
                  <a:pt x="8995" y="4579"/>
                  <a:pt x="8977" y="4662"/>
                  <a:pt x="8954" y="4713"/>
                </a:cubicBezTo>
                <a:cubicBezTo>
                  <a:pt x="8928" y="4771"/>
                  <a:pt x="8869" y="4837"/>
                  <a:pt x="8830" y="4887"/>
                </a:cubicBezTo>
                <a:cubicBezTo>
                  <a:pt x="8822" y="4895"/>
                  <a:pt x="8814" y="4903"/>
                  <a:pt x="8806" y="4911"/>
                </a:cubicBezTo>
                <a:cubicBezTo>
                  <a:pt x="8896" y="4901"/>
                  <a:pt x="8969" y="4855"/>
                  <a:pt x="9054" y="4837"/>
                </a:cubicBezTo>
                <a:cubicBezTo>
                  <a:pt x="9070" y="4837"/>
                  <a:pt x="9087" y="4837"/>
                  <a:pt x="9103" y="4837"/>
                </a:cubicBezTo>
              </a:path>
              <a:path w="7740" h="1514">
                <a:moveTo>
                  <a:pt x="8830" y="5606"/>
                </a:moveTo>
                <a:cubicBezTo>
                  <a:pt x="8853" y="5629"/>
                  <a:pt x="8861" y="5640"/>
                  <a:pt x="8855" y="5606"/>
                </a:cubicBezTo>
              </a:path>
              <a:path w="7740" h="1514">
                <a:moveTo>
                  <a:pt x="8954" y="5358"/>
                </a:moveTo>
                <a:cubicBezTo>
                  <a:pt x="8983" y="5345"/>
                  <a:pt x="9165" y="5249"/>
                  <a:pt x="9203" y="5333"/>
                </a:cubicBezTo>
                <a:cubicBezTo>
                  <a:pt x="9236" y="5406"/>
                  <a:pt x="9158" y="5475"/>
                  <a:pt x="9128" y="5531"/>
                </a:cubicBezTo>
                <a:cubicBezTo>
                  <a:pt x="9097" y="5590"/>
                  <a:pt x="9076" y="5633"/>
                  <a:pt x="9029" y="5680"/>
                </a:cubicBezTo>
                <a:cubicBezTo>
                  <a:pt x="9101" y="5752"/>
                  <a:pt x="9105" y="5716"/>
                  <a:pt x="9203" y="5705"/>
                </a:cubicBezTo>
                <a:cubicBezTo>
                  <a:pt x="9271" y="5705"/>
                  <a:pt x="9290" y="5708"/>
                  <a:pt x="9327" y="5680"/>
                </a:cubicBezTo>
              </a:path>
              <a:path w="7740" h="1514">
                <a:moveTo>
                  <a:pt x="9401" y="4911"/>
                </a:moveTo>
                <a:cubicBezTo>
                  <a:pt x="9508" y="4911"/>
                  <a:pt x="9533" y="4911"/>
                  <a:pt x="9599" y="4911"/>
                </a:cubicBezTo>
              </a:path>
              <a:path w="7740" h="1514">
                <a:moveTo>
                  <a:pt x="9475" y="5159"/>
                </a:moveTo>
                <a:cubicBezTo>
                  <a:pt x="9549" y="5184"/>
                  <a:pt x="9621" y="5199"/>
                  <a:pt x="9699" y="5209"/>
                </a:cubicBezTo>
              </a:path>
              <a:path w="7740" h="1514">
                <a:moveTo>
                  <a:pt x="9996" y="4539"/>
                </a:moveTo>
                <a:cubicBezTo>
                  <a:pt x="10046" y="4489"/>
                  <a:pt x="10074" y="4443"/>
                  <a:pt x="10145" y="4440"/>
                </a:cubicBezTo>
                <a:cubicBezTo>
                  <a:pt x="10261" y="4435"/>
                  <a:pt x="10267" y="4520"/>
                  <a:pt x="10220" y="4614"/>
                </a:cubicBezTo>
                <a:cubicBezTo>
                  <a:pt x="10190" y="4674"/>
                  <a:pt x="10138" y="4710"/>
                  <a:pt x="10096" y="4688"/>
                </a:cubicBezTo>
                <a:cubicBezTo>
                  <a:pt x="10180" y="4660"/>
                  <a:pt x="10206" y="4650"/>
                  <a:pt x="10269" y="4713"/>
                </a:cubicBezTo>
                <a:cubicBezTo>
                  <a:pt x="10315" y="4759"/>
                  <a:pt x="10306" y="4841"/>
                  <a:pt x="10269" y="4887"/>
                </a:cubicBezTo>
                <a:cubicBezTo>
                  <a:pt x="10221" y="4945"/>
                  <a:pt x="10147" y="4956"/>
                  <a:pt x="10071" y="4936"/>
                </a:cubicBezTo>
                <a:cubicBezTo>
                  <a:pt x="10041" y="4906"/>
                  <a:pt x="10030" y="4892"/>
                  <a:pt x="10021" y="4862"/>
                </a:cubicBezTo>
              </a:path>
              <a:path w="7740" h="1514">
                <a:moveTo>
                  <a:pt x="10418" y="4539"/>
                </a:moveTo>
                <a:cubicBezTo>
                  <a:pt x="10531" y="4539"/>
                  <a:pt x="10629" y="4528"/>
                  <a:pt x="10740" y="4514"/>
                </a:cubicBezTo>
                <a:cubicBezTo>
                  <a:pt x="10782" y="4514"/>
                  <a:pt x="10790" y="4514"/>
                  <a:pt x="10815" y="4514"/>
                </a:cubicBezTo>
              </a:path>
              <a:path w="7740" h="1514">
                <a:moveTo>
                  <a:pt x="10468" y="4663"/>
                </a:moveTo>
                <a:cubicBezTo>
                  <a:pt x="10448" y="4796"/>
                  <a:pt x="10428" y="4807"/>
                  <a:pt x="10468" y="4911"/>
                </a:cubicBezTo>
              </a:path>
              <a:path w="7740" h="1514">
                <a:moveTo>
                  <a:pt x="10666" y="4539"/>
                </a:moveTo>
                <a:cubicBezTo>
                  <a:pt x="10666" y="4643"/>
                  <a:pt x="10643" y="4798"/>
                  <a:pt x="10691" y="4887"/>
                </a:cubicBezTo>
                <a:cubicBezTo>
                  <a:pt x="10712" y="4926"/>
                  <a:pt x="10731" y="4948"/>
                  <a:pt x="10740" y="4986"/>
                </a:cubicBezTo>
              </a:path>
              <a:path w="7740" h="1514">
                <a:moveTo>
                  <a:pt x="10021" y="5060"/>
                </a:moveTo>
                <a:cubicBezTo>
                  <a:pt x="10109" y="5036"/>
                  <a:pt x="10177" y="5035"/>
                  <a:pt x="10269" y="5035"/>
                </a:cubicBezTo>
                <a:cubicBezTo>
                  <a:pt x="10380" y="5035"/>
                  <a:pt x="10482" y="5016"/>
                  <a:pt x="10592" y="5011"/>
                </a:cubicBezTo>
                <a:cubicBezTo>
                  <a:pt x="10608" y="5011"/>
                  <a:pt x="10625" y="5011"/>
                  <a:pt x="10641" y="5011"/>
                </a:cubicBezTo>
              </a:path>
              <a:path w="7740" h="1514">
                <a:moveTo>
                  <a:pt x="10418" y="5234"/>
                </a:moveTo>
                <a:cubicBezTo>
                  <a:pt x="10400" y="5312"/>
                  <a:pt x="10337" y="5439"/>
                  <a:pt x="10393" y="5507"/>
                </a:cubicBezTo>
                <a:cubicBezTo>
                  <a:pt x="10426" y="5547"/>
                  <a:pt x="10523" y="5502"/>
                  <a:pt x="10567" y="5482"/>
                </a:cubicBezTo>
                <a:cubicBezTo>
                  <a:pt x="10617" y="5459"/>
                  <a:pt x="10677" y="5416"/>
                  <a:pt x="10691" y="5358"/>
                </a:cubicBezTo>
                <a:cubicBezTo>
                  <a:pt x="10691" y="5341"/>
                  <a:pt x="10691" y="5325"/>
                  <a:pt x="10691" y="5308"/>
                </a:cubicBezTo>
                <a:cubicBezTo>
                  <a:pt x="10633" y="5273"/>
                  <a:pt x="10600" y="5277"/>
                  <a:pt x="10542" y="5308"/>
                </a:cubicBezTo>
                <a:cubicBezTo>
                  <a:pt x="10494" y="5334"/>
                  <a:pt x="10432" y="5398"/>
                  <a:pt x="10418" y="5457"/>
                </a:cubicBezTo>
                <a:cubicBezTo>
                  <a:pt x="10402" y="5523"/>
                  <a:pt x="10452" y="5564"/>
                  <a:pt x="10492" y="5606"/>
                </a:cubicBezTo>
              </a:path>
              <a:path w="7740" h="1514">
                <a:moveTo>
                  <a:pt x="10939" y="5060"/>
                </a:moveTo>
                <a:cubicBezTo>
                  <a:pt x="11005" y="5060"/>
                  <a:pt x="11071" y="5060"/>
                  <a:pt x="11137" y="5060"/>
                </a:cubicBezTo>
              </a:path>
              <a:path w="7740" h="1514">
                <a:moveTo>
                  <a:pt x="11261" y="4564"/>
                </a:moveTo>
                <a:cubicBezTo>
                  <a:pt x="11319" y="4531"/>
                  <a:pt x="11345" y="4493"/>
                  <a:pt x="11410" y="4490"/>
                </a:cubicBezTo>
                <a:cubicBezTo>
                  <a:pt x="11495" y="4486"/>
                  <a:pt x="11554" y="4514"/>
                  <a:pt x="11534" y="4614"/>
                </a:cubicBezTo>
                <a:cubicBezTo>
                  <a:pt x="11523" y="4670"/>
                  <a:pt x="11457" y="4713"/>
                  <a:pt x="11435" y="4762"/>
                </a:cubicBezTo>
                <a:cubicBezTo>
                  <a:pt x="11413" y="4811"/>
                  <a:pt x="11344" y="4930"/>
                  <a:pt x="11361" y="4986"/>
                </a:cubicBezTo>
                <a:cubicBezTo>
                  <a:pt x="11379" y="5046"/>
                  <a:pt x="11446" y="5025"/>
                  <a:pt x="11485" y="5011"/>
                </a:cubicBezTo>
                <a:cubicBezTo>
                  <a:pt x="11534" y="4994"/>
                  <a:pt x="11593" y="4939"/>
                  <a:pt x="11633" y="4911"/>
                </a:cubicBezTo>
              </a:path>
              <a:path w="7740" h="1514">
                <a:moveTo>
                  <a:pt x="11733" y="4539"/>
                </a:moveTo>
                <a:cubicBezTo>
                  <a:pt x="11785" y="4507"/>
                  <a:pt x="11865" y="4500"/>
                  <a:pt x="11931" y="4514"/>
                </a:cubicBezTo>
                <a:cubicBezTo>
                  <a:pt x="11996" y="4536"/>
                  <a:pt x="12011" y="4544"/>
                  <a:pt x="12055" y="4539"/>
                </a:cubicBezTo>
              </a:path>
              <a:path w="7740" h="1514">
                <a:moveTo>
                  <a:pt x="11757" y="4688"/>
                </a:moveTo>
                <a:cubicBezTo>
                  <a:pt x="11770" y="4794"/>
                  <a:pt x="11726" y="4998"/>
                  <a:pt x="11832" y="4986"/>
                </a:cubicBezTo>
                <a:cubicBezTo>
                  <a:pt x="11840" y="4978"/>
                  <a:pt x="11849" y="4969"/>
                  <a:pt x="11857" y="4961"/>
                </a:cubicBezTo>
              </a:path>
              <a:path w="7740" h="1514">
                <a:moveTo>
                  <a:pt x="12030" y="4539"/>
                </a:moveTo>
                <a:cubicBezTo>
                  <a:pt x="11996" y="4607"/>
                  <a:pt x="12005" y="4681"/>
                  <a:pt x="12005" y="4762"/>
                </a:cubicBezTo>
                <a:cubicBezTo>
                  <a:pt x="12005" y="4855"/>
                  <a:pt x="12060" y="4958"/>
                  <a:pt x="12055" y="5035"/>
                </a:cubicBezTo>
                <a:cubicBezTo>
                  <a:pt x="12047" y="5043"/>
                  <a:pt x="12038" y="5052"/>
                  <a:pt x="12030" y="5060"/>
                </a:cubicBezTo>
              </a:path>
              <a:path w="7740" h="1514">
                <a:moveTo>
                  <a:pt x="11385" y="5110"/>
                </a:moveTo>
                <a:cubicBezTo>
                  <a:pt x="11548" y="5110"/>
                  <a:pt x="11698" y="5101"/>
                  <a:pt x="11857" y="5085"/>
                </a:cubicBezTo>
                <a:cubicBezTo>
                  <a:pt x="11925" y="5085"/>
                  <a:pt x="11944" y="5088"/>
                  <a:pt x="11981" y="5060"/>
                </a:cubicBezTo>
              </a:path>
              <a:path w="7740" h="1514">
                <a:moveTo>
                  <a:pt x="11782" y="5234"/>
                </a:moveTo>
                <a:cubicBezTo>
                  <a:pt x="11745" y="5326"/>
                  <a:pt x="11733" y="5355"/>
                  <a:pt x="11733" y="5457"/>
                </a:cubicBezTo>
                <a:cubicBezTo>
                  <a:pt x="11733" y="5509"/>
                  <a:pt x="11778" y="5583"/>
                  <a:pt x="11832" y="5606"/>
                </a:cubicBezTo>
                <a:cubicBezTo>
                  <a:pt x="11878" y="5625"/>
                  <a:pt x="11982" y="5631"/>
                  <a:pt x="12030" y="5606"/>
                </a:cubicBezTo>
                <a:cubicBezTo>
                  <a:pt x="12085" y="5577"/>
                  <a:pt x="12145" y="5490"/>
                  <a:pt x="12154" y="5432"/>
                </a:cubicBezTo>
                <a:cubicBezTo>
                  <a:pt x="12163" y="5376"/>
                  <a:pt x="12135" y="5281"/>
                  <a:pt x="12055" y="5308"/>
                </a:cubicBezTo>
                <a:cubicBezTo>
                  <a:pt x="11999" y="5327"/>
                  <a:pt x="11965" y="5351"/>
                  <a:pt x="11931" y="5407"/>
                </a:cubicBezTo>
                <a:cubicBezTo>
                  <a:pt x="11897" y="5462"/>
                  <a:pt x="11858" y="5485"/>
                  <a:pt x="11881" y="5531"/>
                </a:cubicBezTo>
                <a:cubicBezTo>
                  <a:pt x="11901" y="5572"/>
                  <a:pt x="11899" y="5588"/>
                  <a:pt x="11931" y="5581"/>
                </a:cubicBezTo>
              </a:path>
              <a:path w="7740" h="1514">
                <a:moveTo>
                  <a:pt x="12378" y="4862"/>
                </a:moveTo>
                <a:cubicBezTo>
                  <a:pt x="12483" y="4862"/>
                  <a:pt x="12520" y="4867"/>
                  <a:pt x="12601" y="4887"/>
                </a:cubicBezTo>
              </a:path>
              <a:path w="7740" h="1514">
                <a:moveTo>
                  <a:pt x="12353" y="5135"/>
                </a:moveTo>
                <a:cubicBezTo>
                  <a:pt x="12511" y="5135"/>
                  <a:pt x="12540" y="5148"/>
                  <a:pt x="12626" y="5110"/>
                </a:cubicBezTo>
              </a:path>
              <a:path w="7740" h="1514">
                <a:moveTo>
                  <a:pt x="12948" y="4589"/>
                </a:moveTo>
                <a:cubicBezTo>
                  <a:pt x="13021" y="4561"/>
                  <a:pt x="13093" y="4553"/>
                  <a:pt x="13171" y="4539"/>
                </a:cubicBezTo>
                <a:cubicBezTo>
                  <a:pt x="13273" y="4521"/>
                  <a:pt x="13348" y="4486"/>
                  <a:pt x="13444" y="4465"/>
                </a:cubicBezTo>
                <a:cubicBezTo>
                  <a:pt x="13452" y="4465"/>
                  <a:pt x="13461" y="4465"/>
                  <a:pt x="13469" y="4465"/>
                </a:cubicBezTo>
              </a:path>
              <a:path w="7740" h="1514">
                <a:moveTo>
                  <a:pt x="13122" y="4564"/>
                </a:moveTo>
                <a:cubicBezTo>
                  <a:pt x="13122" y="4664"/>
                  <a:pt x="13102" y="4744"/>
                  <a:pt x="13097" y="4837"/>
                </a:cubicBezTo>
                <a:cubicBezTo>
                  <a:pt x="13093" y="4905"/>
                  <a:pt x="13071" y="4978"/>
                  <a:pt x="13122" y="4961"/>
                </a:cubicBezTo>
              </a:path>
              <a:path w="7740" h="1514">
                <a:moveTo>
                  <a:pt x="13320" y="4539"/>
                </a:moveTo>
                <a:cubicBezTo>
                  <a:pt x="13320" y="4679"/>
                  <a:pt x="13285" y="4796"/>
                  <a:pt x="13320" y="4936"/>
                </a:cubicBezTo>
                <a:cubicBezTo>
                  <a:pt x="13330" y="4975"/>
                  <a:pt x="13374" y="5051"/>
                  <a:pt x="13395" y="5085"/>
                </a:cubicBezTo>
              </a:path>
              <a:path w="7740" h="1514">
                <a:moveTo>
                  <a:pt x="12973" y="5110"/>
                </a:moveTo>
                <a:cubicBezTo>
                  <a:pt x="13078" y="5087"/>
                  <a:pt x="13163" y="5085"/>
                  <a:pt x="13271" y="5085"/>
                </a:cubicBezTo>
                <a:cubicBezTo>
                  <a:pt x="13352" y="5085"/>
                  <a:pt x="13429" y="5099"/>
                  <a:pt x="13494" y="5060"/>
                </a:cubicBezTo>
              </a:path>
              <a:path w="7740" h="1514">
                <a:moveTo>
                  <a:pt x="13171" y="5283"/>
                </a:moveTo>
                <a:cubicBezTo>
                  <a:pt x="13145" y="5333"/>
                  <a:pt x="13064" y="5450"/>
                  <a:pt x="13047" y="5507"/>
                </a:cubicBezTo>
                <a:cubicBezTo>
                  <a:pt x="13016" y="5615"/>
                  <a:pt x="13100" y="5654"/>
                  <a:pt x="13171" y="5680"/>
                </a:cubicBezTo>
                <a:cubicBezTo>
                  <a:pt x="13251" y="5710"/>
                  <a:pt x="13368" y="5698"/>
                  <a:pt x="13444" y="5655"/>
                </a:cubicBezTo>
                <a:cubicBezTo>
                  <a:pt x="13502" y="5622"/>
                  <a:pt x="13535" y="5565"/>
                  <a:pt x="13543" y="5507"/>
                </a:cubicBezTo>
                <a:cubicBezTo>
                  <a:pt x="13485" y="5478"/>
                  <a:pt x="13437" y="5465"/>
                  <a:pt x="13395" y="5531"/>
                </a:cubicBezTo>
                <a:cubicBezTo>
                  <a:pt x="13346" y="5607"/>
                  <a:pt x="13345" y="5667"/>
                  <a:pt x="13345" y="5755"/>
                </a:cubicBezTo>
                <a:cubicBezTo>
                  <a:pt x="13345" y="5771"/>
                  <a:pt x="13345" y="5788"/>
                  <a:pt x="13345" y="58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Ink 6"/>
          <p:cNvSpPr/>
          <p:nvPr/>
        </p:nvSpPr>
        <p:spPr>
          <a:xfrm>
            <a:off x="5106960" y="1571760"/>
            <a:ext cx="1251000" cy="554040"/>
          </a:xfrm>
          <a:custGeom>
            <a:avLst/>
            <a:gdLst/>
            <a:ahLst/>
            <a:rect l="l" t="t" r="r" b="b"/>
            <a:pathLst>
              <a:path w="3474" h="1539">
                <a:moveTo>
                  <a:pt x="14511" y="4440"/>
                </a:moveTo>
                <a:cubicBezTo>
                  <a:pt x="14588" y="4430"/>
                  <a:pt x="14652" y="4415"/>
                  <a:pt x="14734" y="4415"/>
                </a:cubicBezTo>
                <a:cubicBezTo>
                  <a:pt x="14855" y="4415"/>
                  <a:pt x="14961" y="4403"/>
                  <a:pt x="15081" y="4390"/>
                </a:cubicBezTo>
                <a:cubicBezTo>
                  <a:pt x="15139" y="4384"/>
                  <a:pt x="15157" y="4394"/>
                  <a:pt x="15205" y="4366"/>
                </a:cubicBezTo>
              </a:path>
              <a:path w="3474" h="1539">
                <a:moveTo>
                  <a:pt x="14734" y="4415"/>
                </a:moveTo>
                <a:cubicBezTo>
                  <a:pt x="14734" y="4564"/>
                  <a:pt x="14725" y="4695"/>
                  <a:pt x="14709" y="4837"/>
                </a:cubicBezTo>
                <a:cubicBezTo>
                  <a:pt x="14700" y="4916"/>
                  <a:pt x="14684" y="4979"/>
                  <a:pt x="14684" y="5060"/>
                </a:cubicBezTo>
                <a:cubicBezTo>
                  <a:pt x="14684" y="5112"/>
                  <a:pt x="14685" y="5127"/>
                  <a:pt x="14709" y="5060"/>
                </a:cubicBezTo>
              </a:path>
              <a:path w="3474" h="1539">
                <a:moveTo>
                  <a:pt x="14932" y="4390"/>
                </a:moveTo>
                <a:cubicBezTo>
                  <a:pt x="14926" y="4504"/>
                  <a:pt x="14908" y="4598"/>
                  <a:pt x="14908" y="4713"/>
                </a:cubicBezTo>
                <a:cubicBezTo>
                  <a:pt x="14908" y="4817"/>
                  <a:pt x="14903" y="4884"/>
                  <a:pt x="14908" y="4986"/>
                </a:cubicBezTo>
                <a:cubicBezTo>
                  <a:pt x="14908" y="5037"/>
                  <a:pt x="14909" y="5055"/>
                  <a:pt x="14932" y="5085"/>
                </a:cubicBezTo>
              </a:path>
              <a:path w="3474" h="1539">
                <a:moveTo>
                  <a:pt x="15503" y="4986"/>
                </a:moveTo>
                <a:cubicBezTo>
                  <a:pt x="15631" y="4980"/>
                  <a:pt x="15687" y="4961"/>
                  <a:pt x="15801" y="4961"/>
                </a:cubicBezTo>
                <a:cubicBezTo>
                  <a:pt x="15864" y="4961"/>
                  <a:pt x="15909" y="4986"/>
                  <a:pt x="15974" y="4986"/>
                </a:cubicBezTo>
              </a:path>
              <a:path w="3474" h="1539">
                <a:moveTo>
                  <a:pt x="16421" y="4465"/>
                </a:moveTo>
                <a:cubicBezTo>
                  <a:pt x="16540" y="4449"/>
                  <a:pt x="16653" y="4421"/>
                  <a:pt x="16768" y="4415"/>
                </a:cubicBezTo>
                <a:cubicBezTo>
                  <a:pt x="16817" y="4413"/>
                  <a:pt x="16868" y="4415"/>
                  <a:pt x="16917" y="4415"/>
                </a:cubicBezTo>
              </a:path>
              <a:path w="3474" h="1539">
                <a:moveTo>
                  <a:pt x="16594" y="4440"/>
                </a:moveTo>
                <a:cubicBezTo>
                  <a:pt x="16573" y="4539"/>
                  <a:pt x="16567" y="4642"/>
                  <a:pt x="16545" y="4738"/>
                </a:cubicBezTo>
                <a:cubicBezTo>
                  <a:pt x="16530" y="4804"/>
                  <a:pt x="16493" y="4916"/>
                  <a:pt x="16520" y="4986"/>
                </a:cubicBezTo>
                <a:cubicBezTo>
                  <a:pt x="16558" y="5024"/>
                  <a:pt x="16576" y="5017"/>
                  <a:pt x="16594" y="4936"/>
                </a:cubicBezTo>
              </a:path>
              <a:path w="3474" h="1539">
                <a:moveTo>
                  <a:pt x="16768" y="4465"/>
                </a:moveTo>
                <a:cubicBezTo>
                  <a:pt x="16768" y="4554"/>
                  <a:pt x="16755" y="4627"/>
                  <a:pt x="16743" y="4713"/>
                </a:cubicBezTo>
                <a:cubicBezTo>
                  <a:pt x="16733" y="4783"/>
                  <a:pt x="16730" y="4875"/>
                  <a:pt x="16768" y="4936"/>
                </a:cubicBezTo>
                <a:cubicBezTo>
                  <a:pt x="16794" y="4978"/>
                  <a:pt x="16830" y="4987"/>
                  <a:pt x="16842" y="5035"/>
                </a:cubicBezTo>
              </a:path>
              <a:path w="3474" h="1539">
                <a:moveTo>
                  <a:pt x="16297" y="5060"/>
                </a:moveTo>
                <a:cubicBezTo>
                  <a:pt x="16403" y="5089"/>
                  <a:pt x="16439" y="5063"/>
                  <a:pt x="16545" y="5060"/>
                </a:cubicBezTo>
                <a:cubicBezTo>
                  <a:pt x="16658" y="5057"/>
                  <a:pt x="16755" y="5035"/>
                  <a:pt x="16867" y="5035"/>
                </a:cubicBezTo>
                <a:cubicBezTo>
                  <a:pt x="16908" y="5035"/>
                  <a:pt x="16950" y="5035"/>
                  <a:pt x="16991" y="5035"/>
                </a:cubicBezTo>
              </a:path>
              <a:path w="3474" h="1539">
                <a:moveTo>
                  <a:pt x="16495" y="5259"/>
                </a:moveTo>
                <a:cubicBezTo>
                  <a:pt x="16593" y="5250"/>
                  <a:pt x="16673" y="5203"/>
                  <a:pt x="16768" y="5184"/>
                </a:cubicBezTo>
                <a:cubicBezTo>
                  <a:pt x="16813" y="5184"/>
                  <a:pt x="16826" y="5180"/>
                  <a:pt x="16842" y="5209"/>
                </a:cubicBezTo>
                <a:cubicBezTo>
                  <a:pt x="16806" y="5273"/>
                  <a:pt x="16756" y="5316"/>
                  <a:pt x="16694" y="5358"/>
                </a:cubicBezTo>
                <a:cubicBezTo>
                  <a:pt x="16640" y="5394"/>
                  <a:pt x="16616" y="5434"/>
                  <a:pt x="16570" y="5482"/>
                </a:cubicBezTo>
                <a:cubicBezTo>
                  <a:pt x="16621" y="5482"/>
                  <a:pt x="16755" y="5473"/>
                  <a:pt x="16793" y="5507"/>
                </a:cubicBezTo>
                <a:cubicBezTo>
                  <a:pt x="16803" y="5516"/>
                  <a:pt x="16919" y="5655"/>
                  <a:pt x="16917" y="5680"/>
                </a:cubicBezTo>
                <a:cubicBezTo>
                  <a:pt x="16910" y="5758"/>
                  <a:pt x="16825" y="5777"/>
                  <a:pt x="16768" y="5779"/>
                </a:cubicBezTo>
                <a:cubicBezTo>
                  <a:pt x="16669" y="5783"/>
                  <a:pt x="16569" y="5779"/>
                  <a:pt x="16470" y="5779"/>
                </a:cubicBezTo>
              </a:path>
              <a:path w="3474" h="1539">
                <a:moveTo>
                  <a:pt x="14536" y="5234"/>
                </a:moveTo>
                <a:cubicBezTo>
                  <a:pt x="14613" y="5224"/>
                  <a:pt x="14677" y="5209"/>
                  <a:pt x="14759" y="5209"/>
                </a:cubicBezTo>
                <a:cubicBezTo>
                  <a:pt x="14841" y="5209"/>
                  <a:pt x="14908" y="5194"/>
                  <a:pt x="14982" y="5184"/>
                </a:cubicBezTo>
                <a:cubicBezTo>
                  <a:pt x="15037" y="5177"/>
                  <a:pt x="15100" y="5184"/>
                  <a:pt x="15156" y="5184"/>
                </a:cubicBezTo>
              </a:path>
              <a:path w="3474" h="1539">
                <a:moveTo>
                  <a:pt x="14238" y="4638"/>
                </a:moveTo>
                <a:cubicBezTo>
                  <a:pt x="14290" y="4588"/>
                  <a:pt x="14314" y="4543"/>
                  <a:pt x="14387" y="4539"/>
                </a:cubicBezTo>
                <a:cubicBezTo>
                  <a:pt x="14431" y="4539"/>
                  <a:pt x="14445" y="4536"/>
                  <a:pt x="14461" y="4564"/>
                </a:cubicBezTo>
                <a:cubicBezTo>
                  <a:pt x="14421" y="4654"/>
                  <a:pt x="14412" y="4683"/>
                  <a:pt x="14337" y="4738"/>
                </a:cubicBezTo>
                <a:cubicBezTo>
                  <a:pt x="14329" y="4746"/>
                  <a:pt x="14320" y="4754"/>
                  <a:pt x="14312" y="4762"/>
                </a:cubicBezTo>
                <a:cubicBezTo>
                  <a:pt x="14388" y="4762"/>
                  <a:pt x="14408" y="4759"/>
                  <a:pt x="14461" y="4812"/>
                </a:cubicBezTo>
                <a:cubicBezTo>
                  <a:pt x="14520" y="4872"/>
                  <a:pt x="14521" y="4918"/>
                  <a:pt x="14486" y="4986"/>
                </a:cubicBezTo>
                <a:cubicBezTo>
                  <a:pt x="14443" y="5072"/>
                  <a:pt x="14373" y="5060"/>
                  <a:pt x="14288" y="5060"/>
                </a:cubicBezTo>
                <a:cubicBezTo>
                  <a:pt x="14238" y="5060"/>
                  <a:pt x="14221" y="5060"/>
                  <a:pt x="14188" y="5060"/>
                </a:cubicBezTo>
              </a:path>
              <a:path w="3474" h="1539">
                <a:moveTo>
                  <a:pt x="14312" y="5531"/>
                </a:moveTo>
                <a:cubicBezTo>
                  <a:pt x="14394" y="5478"/>
                  <a:pt x="14450" y="5505"/>
                  <a:pt x="14536" y="5482"/>
                </a:cubicBezTo>
                <a:cubicBezTo>
                  <a:pt x="14614" y="5461"/>
                  <a:pt x="14674" y="5457"/>
                  <a:pt x="14759" y="5457"/>
                </a:cubicBezTo>
                <a:cubicBezTo>
                  <a:pt x="14712" y="5504"/>
                  <a:pt x="14660" y="5515"/>
                  <a:pt x="14610" y="5556"/>
                </a:cubicBezTo>
                <a:cubicBezTo>
                  <a:pt x="14582" y="5584"/>
                  <a:pt x="14573" y="5598"/>
                  <a:pt x="14585" y="5631"/>
                </a:cubicBezTo>
                <a:cubicBezTo>
                  <a:pt x="14659" y="5637"/>
                  <a:pt x="14778" y="5643"/>
                  <a:pt x="14759" y="5755"/>
                </a:cubicBezTo>
                <a:cubicBezTo>
                  <a:pt x="14748" y="5820"/>
                  <a:pt x="14665" y="5862"/>
                  <a:pt x="14610" y="5879"/>
                </a:cubicBezTo>
                <a:cubicBezTo>
                  <a:pt x="14550" y="5897"/>
                  <a:pt x="14501" y="5904"/>
                  <a:pt x="14436" y="5904"/>
                </a:cubicBezTo>
                <a:cubicBezTo>
                  <a:pt x="14420" y="5904"/>
                  <a:pt x="14403" y="5904"/>
                  <a:pt x="14387" y="5904"/>
                </a:cubicBezTo>
              </a:path>
              <a:path w="3474" h="1539">
                <a:moveTo>
                  <a:pt x="17363" y="4961"/>
                </a:moveTo>
                <a:cubicBezTo>
                  <a:pt x="17489" y="4966"/>
                  <a:pt x="17530" y="4968"/>
                  <a:pt x="17636" y="4986"/>
                </a:cubicBezTo>
              </a:path>
              <a:path w="3474" h="1539">
                <a:moveTo>
                  <a:pt x="17363" y="5110"/>
                </a:moveTo>
                <a:cubicBezTo>
                  <a:pt x="17465" y="5084"/>
                  <a:pt x="17555" y="5085"/>
                  <a:pt x="17661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Ink 7"/>
          <p:cNvSpPr/>
          <p:nvPr/>
        </p:nvSpPr>
        <p:spPr>
          <a:xfrm>
            <a:off x="6626160" y="1571760"/>
            <a:ext cx="366840" cy="581040"/>
          </a:xfrm>
          <a:custGeom>
            <a:avLst/>
            <a:gdLst/>
            <a:ahLst/>
            <a:rect l="l" t="t" r="r" b="b"/>
            <a:pathLst>
              <a:path w="1018" h="1613">
                <a:moveTo>
                  <a:pt x="18504" y="4514"/>
                </a:moveTo>
                <a:cubicBezTo>
                  <a:pt x="18564" y="4456"/>
                  <a:pt x="18644" y="4438"/>
                  <a:pt x="18728" y="4465"/>
                </a:cubicBezTo>
                <a:cubicBezTo>
                  <a:pt x="18758" y="4474"/>
                  <a:pt x="18804" y="4541"/>
                  <a:pt x="18827" y="4564"/>
                </a:cubicBezTo>
                <a:cubicBezTo>
                  <a:pt x="18784" y="4618"/>
                  <a:pt x="18764" y="4679"/>
                  <a:pt x="18728" y="4738"/>
                </a:cubicBezTo>
                <a:cubicBezTo>
                  <a:pt x="18681" y="4816"/>
                  <a:pt x="18618" y="4872"/>
                  <a:pt x="18554" y="4936"/>
                </a:cubicBezTo>
                <a:cubicBezTo>
                  <a:pt x="18511" y="4979"/>
                  <a:pt x="18513" y="4974"/>
                  <a:pt x="18504" y="5035"/>
                </a:cubicBezTo>
                <a:cubicBezTo>
                  <a:pt x="18559" y="5068"/>
                  <a:pt x="18637" y="5054"/>
                  <a:pt x="18703" y="5035"/>
                </a:cubicBezTo>
                <a:cubicBezTo>
                  <a:pt x="18805" y="5007"/>
                  <a:pt x="18827" y="4996"/>
                  <a:pt x="18926" y="4936"/>
                </a:cubicBezTo>
              </a:path>
              <a:path w="1018" h="1613">
                <a:moveTo>
                  <a:pt x="18926" y="4465"/>
                </a:moveTo>
                <a:cubicBezTo>
                  <a:pt x="19038" y="4425"/>
                  <a:pt x="19129" y="4394"/>
                  <a:pt x="19248" y="4390"/>
                </a:cubicBezTo>
                <a:cubicBezTo>
                  <a:pt x="19332" y="4390"/>
                  <a:pt x="19366" y="4388"/>
                  <a:pt x="19422" y="4366"/>
                </a:cubicBezTo>
              </a:path>
              <a:path w="1018" h="1613">
                <a:moveTo>
                  <a:pt x="19100" y="4465"/>
                </a:moveTo>
                <a:cubicBezTo>
                  <a:pt x="19074" y="4570"/>
                  <a:pt x="19029" y="4680"/>
                  <a:pt x="19025" y="4787"/>
                </a:cubicBezTo>
                <a:cubicBezTo>
                  <a:pt x="19021" y="4874"/>
                  <a:pt x="19043" y="4904"/>
                  <a:pt x="19100" y="4961"/>
                </a:cubicBezTo>
              </a:path>
              <a:path w="1018" h="1613">
                <a:moveTo>
                  <a:pt x="19248" y="4415"/>
                </a:moveTo>
                <a:cubicBezTo>
                  <a:pt x="19221" y="4505"/>
                  <a:pt x="19158" y="4662"/>
                  <a:pt x="19174" y="4762"/>
                </a:cubicBezTo>
                <a:cubicBezTo>
                  <a:pt x="19189" y="4853"/>
                  <a:pt x="19262" y="4900"/>
                  <a:pt x="19323" y="4961"/>
                </a:cubicBezTo>
                <a:cubicBezTo>
                  <a:pt x="19353" y="4991"/>
                  <a:pt x="19367" y="5002"/>
                  <a:pt x="19397" y="5011"/>
                </a:cubicBezTo>
              </a:path>
              <a:path w="1018" h="1613">
                <a:moveTo>
                  <a:pt x="18405" y="5234"/>
                </a:moveTo>
                <a:cubicBezTo>
                  <a:pt x="18593" y="5188"/>
                  <a:pt x="18782" y="5141"/>
                  <a:pt x="18976" y="5135"/>
                </a:cubicBezTo>
                <a:cubicBezTo>
                  <a:pt x="19081" y="5132"/>
                  <a:pt x="19171" y="5121"/>
                  <a:pt x="19273" y="5110"/>
                </a:cubicBezTo>
              </a:path>
              <a:path w="1018" h="1613">
                <a:moveTo>
                  <a:pt x="18901" y="5407"/>
                </a:moveTo>
                <a:cubicBezTo>
                  <a:pt x="18938" y="5376"/>
                  <a:pt x="19069" y="5274"/>
                  <a:pt x="19124" y="5333"/>
                </a:cubicBezTo>
                <a:cubicBezTo>
                  <a:pt x="19183" y="5396"/>
                  <a:pt x="19119" y="5485"/>
                  <a:pt x="19075" y="5531"/>
                </a:cubicBezTo>
                <a:cubicBezTo>
                  <a:pt x="18998" y="5611"/>
                  <a:pt x="18957" y="5639"/>
                  <a:pt x="18876" y="5680"/>
                </a:cubicBezTo>
                <a:cubicBezTo>
                  <a:pt x="18812" y="5713"/>
                  <a:pt x="18984" y="5671"/>
                  <a:pt x="19025" y="5680"/>
                </a:cubicBezTo>
                <a:cubicBezTo>
                  <a:pt x="19111" y="5698"/>
                  <a:pt x="19145" y="5749"/>
                  <a:pt x="19149" y="5829"/>
                </a:cubicBezTo>
                <a:cubicBezTo>
                  <a:pt x="19153" y="5894"/>
                  <a:pt x="19091" y="5962"/>
                  <a:pt x="19025" y="5978"/>
                </a:cubicBezTo>
                <a:cubicBezTo>
                  <a:pt x="18936" y="5999"/>
                  <a:pt x="18834" y="5966"/>
                  <a:pt x="18752" y="5953"/>
                </a:cubicBezTo>
                <a:cubicBezTo>
                  <a:pt x="18703" y="5953"/>
                  <a:pt x="18686" y="5953"/>
                  <a:pt x="18653" y="59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Ink 8"/>
          <p:cNvSpPr/>
          <p:nvPr/>
        </p:nvSpPr>
        <p:spPr>
          <a:xfrm>
            <a:off x="615960" y="1527120"/>
            <a:ext cx="393840" cy="285840"/>
          </a:xfrm>
          <a:custGeom>
            <a:avLst/>
            <a:gdLst/>
            <a:ahLst/>
            <a:rect l="l" t="t" r="r" b="b"/>
            <a:pathLst>
              <a:path w="1092" h="794">
                <a:moveTo>
                  <a:pt x="1712" y="4266"/>
                </a:moveTo>
                <a:cubicBezTo>
                  <a:pt x="1747" y="4327"/>
                  <a:pt x="1752" y="4440"/>
                  <a:pt x="1761" y="4514"/>
                </a:cubicBezTo>
                <a:cubicBezTo>
                  <a:pt x="1775" y="4629"/>
                  <a:pt x="1772" y="4747"/>
                  <a:pt x="1786" y="4862"/>
                </a:cubicBezTo>
                <a:cubicBezTo>
                  <a:pt x="1791" y="4902"/>
                  <a:pt x="1786" y="4946"/>
                  <a:pt x="1786" y="4986"/>
                </a:cubicBezTo>
              </a:path>
              <a:path w="1092" h="794">
                <a:moveTo>
                  <a:pt x="2257" y="4465"/>
                </a:moveTo>
                <a:cubicBezTo>
                  <a:pt x="2249" y="4412"/>
                  <a:pt x="2242" y="4359"/>
                  <a:pt x="2208" y="4316"/>
                </a:cubicBezTo>
                <a:cubicBezTo>
                  <a:pt x="2168" y="4266"/>
                  <a:pt x="2145" y="4231"/>
                  <a:pt x="2084" y="4266"/>
                </a:cubicBezTo>
                <a:cubicBezTo>
                  <a:pt x="2041" y="4291"/>
                  <a:pt x="2006" y="4348"/>
                  <a:pt x="1984" y="4390"/>
                </a:cubicBezTo>
                <a:cubicBezTo>
                  <a:pt x="1956" y="4443"/>
                  <a:pt x="1938" y="4508"/>
                  <a:pt x="1935" y="4564"/>
                </a:cubicBezTo>
                <a:cubicBezTo>
                  <a:pt x="1933" y="4610"/>
                  <a:pt x="1948" y="4696"/>
                  <a:pt x="2009" y="4713"/>
                </a:cubicBezTo>
                <a:cubicBezTo>
                  <a:pt x="2064" y="4729"/>
                  <a:pt x="2137" y="4681"/>
                  <a:pt x="2158" y="4638"/>
                </a:cubicBezTo>
                <a:cubicBezTo>
                  <a:pt x="2186" y="4580"/>
                  <a:pt x="2200" y="4526"/>
                  <a:pt x="2208" y="4465"/>
                </a:cubicBezTo>
                <a:cubicBezTo>
                  <a:pt x="2208" y="4655"/>
                  <a:pt x="2208" y="4845"/>
                  <a:pt x="2208" y="5035"/>
                </a:cubicBezTo>
              </a:path>
              <a:path w="1092" h="794">
                <a:moveTo>
                  <a:pt x="2654" y="4738"/>
                </a:moveTo>
                <a:cubicBezTo>
                  <a:pt x="2614" y="4698"/>
                  <a:pt x="2593" y="4622"/>
                  <a:pt x="2530" y="4638"/>
                </a:cubicBezTo>
                <a:cubicBezTo>
                  <a:pt x="2488" y="4649"/>
                  <a:pt x="2452" y="4734"/>
                  <a:pt x="2431" y="4762"/>
                </a:cubicBezTo>
                <a:cubicBezTo>
                  <a:pt x="2389" y="4817"/>
                  <a:pt x="2406" y="4890"/>
                  <a:pt x="2406" y="4961"/>
                </a:cubicBezTo>
                <a:cubicBezTo>
                  <a:pt x="2482" y="4961"/>
                  <a:pt x="2518" y="4957"/>
                  <a:pt x="2580" y="4911"/>
                </a:cubicBezTo>
                <a:cubicBezTo>
                  <a:pt x="2624" y="4878"/>
                  <a:pt x="2665" y="4851"/>
                  <a:pt x="2704" y="4812"/>
                </a:cubicBezTo>
                <a:cubicBezTo>
                  <a:pt x="2704" y="4887"/>
                  <a:pt x="2708" y="4925"/>
                  <a:pt x="2753" y="4986"/>
                </a:cubicBezTo>
                <a:cubicBezTo>
                  <a:pt x="2776" y="5009"/>
                  <a:pt x="2780" y="5017"/>
                  <a:pt x="2803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Ink 9"/>
          <p:cNvSpPr/>
          <p:nvPr/>
        </p:nvSpPr>
        <p:spPr>
          <a:xfrm>
            <a:off x="1170000" y="1625760"/>
            <a:ext cx="285840" cy="625320"/>
          </a:xfrm>
          <a:custGeom>
            <a:avLst/>
            <a:gdLst/>
            <a:ahLst/>
            <a:rect l="l" t="t" r="r" b="b"/>
            <a:pathLst>
              <a:path w="795" h="1738">
                <a:moveTo>
                  <a:pt x="3274" y="4787"/>
                </a:moveTo>
                <a:cubicBezTo>
                  <a:pt x="3305" y="4680"/>
                  <a:pt x="3381" y="4721"/>
                  <a:pt x="3473" y="4663"/>
                </a:cubicBezTo>
                <a:cubicBezTo>
                  <a:pt x="3561" y="4607"/>
                  <a:pt x="3640" y="4569"/>
                  <a:pt x="3746" y="4539"/>
                </a:cubicBezTo>
                <a:cubicBezTo>
                  <a:pt x="3842" y="4512"/>
                  <a:pt x="3920" y="4514"/>
                  <a:pt x="4018" y="4514"/>
                </a:cubicBezTo>
              </a:path>
              <a:path w="795" h="1738">
                <a:moveTo>
                  <a:pt x="3448" y="4762"/>
                </a:moveTo>
                <a:cubicBezTo>
                  <a:pt x="3448" y="4868"/>
                  <a:pt x="3444" y="5010"/>
                  <a:pt x="3473" y="5110"/>
                </a:cubicBezTo>
                <a:cubicBezTo>
                  <a:pt x="3478" y="5126"/>
                  <a:pt x="3512" y="5238"/>
                  <a:pt x="3547" y="5234"/>
                </a:cubicBezTo>
                <a:cubicBezTo>
                  <a:pt x="3555" y="5226"/>
                  <a:pt x="3564" y="5217"/>
                  <a:pt x="3572" y="5209"/>
                </a:cubicBezTo>
              </a:path>
              <a:path w="795" h="1738">
                <a:moveTo>
                  <a:pt x="3696" y="4638"/>
                </a:moveTo>
                <a:cubicBezTo>
                  <a:pt x="3696" y="4748"/>
                  <a:pt x="3711" y="4808"/>
                  <a:pt x="3746" y="4911"/>
                </a:cubicBezTo>
                <a:cubicBezTo>
                  <a:pt x="3767" y="4974"/>
                  <a:pt x="3829" y="5052"/>
                  <a:pt x="3845" y="5110"/>
                </a:cubicBezTo>
                <a:cubicBezTo>
                  <a:pt x="3845" y="5151"/>
                  <a:pt x="3845" y="5159"/>
                  <a:pt x="3845" y="5184"/>
                </a:cubicBezTo>
              </a:path>
              <a:path w="795" h="1738">
                <a:moveTo>
                  <a:pt x="3249" y="5432"/>
                </a:moveTo>
                <a:cubicBezTo>
                  <a:pt x="3377" y="5304"/>
                  <a:pt x="3524" y="5267"/>
                  <a:pt x="3696" y="5184"/>
                </a:cubicBezTo>
                <a:cubicBezTo>
                  <a:pt x="3827" y="5121"/>
                  <a:pt x="3901" y="5093"/>
                  <a:pt x="4043" y="5085"/>
                </a:cubicBezTo>
              </a:path>
              <a:path w="795" h="1738">
                <a:moveTo>
                  <a:pt x="3547" y="5631"/>
                </a:moveTo>
                <a:cubicBezTo>
                  <a:pt x="3587" y="5575"/>
                  <a:pt x="3638" y="5501"/>
                  <a:pt x="3696" y="5457"/>
                </a:cubicBezTo>
                <a:cubicBezTo>
                  <a:pt x="3764" y="5406"/>
                  <a:pt x="3822" y="5389"/>
                  <a:pt x="3894" y="5407"/>
                </a:cubicBezTo>
                <a:cubicBezTo>
                  <a:pt x="3894" y="5483"/>
                  <a:pt x="3899" y="5545"/>
                  <a:pt x="3845" y="5606"/>
                </a:cubicBezTo>
                <a:cubicBezTo>
                  <a:pt x="3794" y="5664"/>
                  <a:pt x="3727" y="5700"/>
                  <a:pt x="3671" y="5755"/>
                </a:cubicBezTo>
                <a:cubicBezTo>
                  <a:pt x="3663" y="5763"/>
                  <a:pt x="3654" y="5771"/>
                  <a:pt x="3646" y="5779"/>
                </a:cubicBezTo>
                <a:cubicBezTo>
                  <a:pt x="3696" y="5710"/>
                  <a:pt x="3751" y="5680"/>
                  <a:pt x="3845" y="5705"/>
                </a:cubicBezTo>
                <a:cubicBezTo>
                  <a:pt x="3888" y="5717"/>
                  <a:pt x="4018" y="5804"/>
                  <a:pt x="4018" y="5854"/>
                </a:cubicBezTo>
                <a:cubicBezTo>
                  <a:pt x="4018" y="5977"/>
                  <a:pt x="3969" y="5966"/>
                  <a:pt x="3894" y="6028"/>
                </a:cubicBezTo>
                <a:cubicBezTo>
                  <a:pt x="3804" y="6102"/>
                  <a:pt x="3750" y="6127"/>
                  <a:pt x="3646" y="6176"/>
                </a:cubicBezTo>
                <a:cubicBezTo>
                  <a:pt x="3589" y="6203"/>
                  <a:pt x="3531" y="6225"/>
                  <a:pt x="3473" y="62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Ink 10"/>
          <p:cNvSpPr/>
          <p:nvPr/>
        </p:nvSpPr>
        <p:spPr>
          <a:xfrm>
            <a:off x="1197000" y="2616120"/>
            <a:ext cx="384120" cy="536760"/>
          </a:xfrm>
          <a:custGeom>
            <a:avLst/>
            <a:gdLst/>
            <a:ahLst/>
            <a:rect l="l" t="t" r="r" b="b"/>
            <a:pathLst>
              <a:path w="1067" h="1489">
                <a:moveTo>
                  <a:pt x="3324" y="7342"/>
                </a:moveTo>
                <a:cubicBezTo>
                  <a:pt x="3410" y="7275"/>
                  <a:pt x="3490" y="7228"/>
                  <a:pt x="3597" y="7293"/>
                </a:cubicBezTo>
                <a:cubicBezTo>
                  <a:pt x="3643" y="7321"/>
                  <a:pt x="3637" y="7435"/>
                  <a:pt x="3597" y="7466"/>
                </a:cubicBezTo>
                <a:cubicBezTo>
                  <a:pt x="3553" y="7500"/>
                  <a:pt x="3514" y="7524"/>
                  <a:pt x="3473" y="7565"/>
                </a:cubicBezTo>
                <a:cubicBezTo>
                  <a:pt x="3465" y="7573"/>
                  <a:pt x="3456" y="7582"/>
                  <a:pt x="3448" y="7590"/>
                </a:cubicBezTo>
                <a:cubicBezTo>
                  <a:pt x="3525" y="7590"/>
                  <a:pt x="3657" y="7569"/>
                  <a:pt x="3696" y="7665"/>
                </a:cubicBezTo>
                <a:cubicBezTo>
                  <a:pt x="3724" y="7735"/>
                  <a:pt x="3676" y="7801"/>
                  <a:pt x="3621" y="7838"/>
                </a:cubicBezTo>
                <a:cubicBezTo>
                  <a:pt x="3562" y="7878"/>
                  <a:pt x="3493" y="7909"/>
                  <a:pt x="3423" y="7913"/>
                </a:cubicBezTo>
                <a:cubicBezTo>
                  <a:pt x="3363" y="7916"/>
                  <a:pt x="3361" y="7912"/>
                  <a:pt x="3349" y="7863"/>
                </a:cubicBezTo>
              </a:path>
              <a:path w="1067" h="1489">
                <a:moveTo>
                  <a:pt x="3870" y="7392"/>
                </a:moveTo>
                <a:cubicBezTo>
                  <a:pt x="3981" y="7367"/>
                  <a:pt x="4110" y="7348"/>
                  <a:pt x="4217" y="7317"/>
                </a:cubicBezTo>
                <a:cubicBezTo>
                  <a:pt x="4265" y="7303"/>
                  <a:pt x="4299" y="7294"/>
                  <a:pt x="4316" y="7268"/>
                </a:cubicBezTo>
              </a:path>
              <a:path w="1067" h="1489">
                <a:moveTo>
                  <a:pt x="3919" y="7466"/>
                </a:moveTo>
                <a:cubicBezTo>
                  <a:pt x="3919" y="7577"/>
                  <a:pt x="3911" y="7671"/>
                  <a:pt x="3944" y="7764"/>
                </a:cubicBezTo>
                <a:cubicBezTo>
                  <a:pt x="3964" y="7804"/>
                  <a:pt x="3963" y="7820"/>
                  <a:pt x="3994" y="7813"/>
                </a:cubicBezTo>
              </a:path>
              <a:path w="1067" h="1489">
                <a:moveTo>
                  <a:pt x="4142" y="7342"/>
                </a:moveTo>
                <a:cubicBezTo>
                  <a:pt x="4142" y="7463"/>
                  <a:pt x="4100" y="7683"/>
                  <a:pt x="4167" y="7789"/>
                </a:cubicBezTo>
                <a:cubicBezTo>
                  <a:pt x="4189" y="7825"/>
                  <a:pt x="4208" y="7844"/>
                  <a:pt x="4217" y="7888"/>
                </a:cubicBezTo>
              </a:path>
              <a:path w="1067" h="1489">
                <a:moveTo>
                  <a:pt x="3398" y="8086"/>
                </a:moveTo>
                <a:cubicBezTo>
                  <a:pt x="3473" y="8028"/>
                  <a:pt x="3554" y="8032"/>
                  <a:pt x="3646" y="8012"/>
                </a:cubicBezTo>
                <a:cubicBezTo>
                  <a:pt x="3884" y="7961"/>
                  <a:pt x="4000" y="7938"/>
                  <a:pt x="4217" y="7938"/>
                </a:cubicBezTo>
                <a:cubicBezTo>
                  <a:pt x="4233" y="7938"/>
                  <a:pt x="4250" y="7938"/>
                  <a:pt x="4266" y="7938"/>
                </a:cubicBezTo>
              </a:path>
              <a:path w="1067" h="1489">
                <a:moveTo>
                  <a:pt x="4043" y="8136"/>
                </a:moveTo>
                <a:cubicBezTo>
                  <a:pt x="4020" y="8190"/>
                  <a:pt x="3947" y="8304"/>
                  <a:pt x="4018" y="8359"/>
                </a:cubicBezTo>
                <a:cubicBezTo>
                  <a:pt x="4081" y="8408"/>
                  <a:pt x="4189" y="8425"/>
                  <a:pt x="4266" y="8409"/>
                </a:cubicBezTo>
                <a:cubicBezTo>
                  <a:pt x="4331" y="8387"/>
                  <a:pt x="4346" y="8379"/>
                  <a:pt x="4390" y="8384"/>
                </a:cubicBezTo>
              </a:path>
              <a:path w="1067" h="1489">
                <a:moveTo>
                  <a:pt x="4341" y="7938"/>
                </a:moveTo>
                <a:cubicBezTo>
                  <a:pt x="4282" y="8178"/>
                  <a:pt x="4294" y="8326"/>
                  <a:pt x="4266" y="8558"/>
                </a:cubicBezTo>
                <a:cubicBezTo>
                  <a:pt x="4242" y="8656"/>
                  <a:pt x="4234" y="8688"/>
                  <a:pt x="4242" y="87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Ink 11"/>
          <p:cNvSpPr/>
          <p:nvPr/>
        </p:nvSpPr>
        <p:spPr>
          <a:xfrm>
            <a:off x="1241280" y="3562200"/>
            <a:ext cx="71640" cy="474840"/>
          </a:xfrm>
          <a:custGeom>
            <a:avLst/>
            <a:gdLst/>
            <a:ahLst/>
            <a:rect l="l" t="t" r="r" b="b"/>
            <a:pathLst>
              <a:path w="199" h="1316">
                <a:moveTo>
                  <a:pt x="3448" y="9897"/>
                </a:moveTo>
                <a:cubicBezTo>
                  <a:pt x="3448" y="10028"/>
                  <a:pt x="3471" y="10140"/>
                  <a:pt x="3497" y="10269"/>
                </a:cubicBezTo>
                <a:cubicBezTo>
                  <a:pt x="3538" y="10469"/>
                  <a:pt x="3606" y="10654"/>
                  <a:pt x="3621" y="10864"/>
                </a:cubicBezTo>
                <a:cubicBezTo>
                  <a:pt x="3621" y="11030"/>
                  <a:pt x="3623" y="11097"/>
                  <a:pt x="3646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Ink 12"/>
          <p:cNvSpPr/>
          <p:nvPr/>
        </p:nvSpPr>
        <p:spPr>
          <a:xfrm>
            <a:off x="1224000" y="5143680"/>
            <a:ext cx="241200" cy="536400"/>
          </a:xfrm>
          <a:custGeom>
            <a:avLst/>
            <a:gdLst/>
            <a:ahLst/>
            <a:rect l="l" t="t" r="r" b="b"/>
            <a:pathLst>
              <a:path w="671" h="1489">
                <a:moveTo>
                  <a:pt x="3621" y="14288"/>
                </a:moveTo>
                <a:cubicBezTo>
                  <a:pt x="3672" y="14292"/>
                  <a:pt x="3808" y="14305"/>
                  <a:pt x="3820" y="14387"/>
                </a:cubicBezTo>
                <a:cubicBezTo>
                  <a:pt x="3846" y="14559"/>
                  <a:pt x="3810" y="14659"/>
                  <a:pt x="3746" y="14808"/>
                </a:cubicBezTo>
                <a:cubicBezTo>
                  <a:pt x="3705" y="14904"/>
                  <a:pt x="3633" y="14975"/>
                  <a:pt x="3572" y="15056"/>
                </a:cubicBezTo>
                <a:cubicBezTo>
                  <a:pt x="3504" y="15147"/>
                  <a:pt x="3479" y="15259"/>
                  <a:pt x="3423" y="15354"/>
                </a:cubicBezTo>
                <a:cubicBezTo>
                  <a:pt x="3378" y="15430"/>
                  <a:pt x="3387" y="15502"/>
                  <a:pt x="3448" y="15577"/>
                </a:cubicBezTo>
                <a:cubicBezTo>
                  <a:pt x="3537" y="15686"/>
                  <a:pt x="3654" y="15759"/>
                  <a:pt x="3795" y="15776"/>
                </a:cubicBezTo>
                <a:cubicBezTo>
                  <a:pt x="3881" y="15787"/>
                  <a:pt x="3981" y="15776"/>
                  <a:pt x="4068" y="157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Ink 13"/>
          <p:cNvSpPr/>
          <p:nvPr/>
        </p:nvSpPr>
        <p:spPr>
          <a:xfrm>
            <a:off x="581040" y="2732040"/>
            <a:ext cx="339840" cy="26820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1612" y="7615"/>
                </a:moveTo>
                <a:cubicBezTo>
                  <a:pt x="1638" y="7736"/>
                  <a:pt x="1657" y="7862"/>
                  <a:pt x="1662" y="7987"/>
                </a:cubicBezTo>
                <a:cubicBezTo>
                  <a:pt x="1666" y="8070"/>
                  <a:pt x="1677" y="8168"/>
                  <a:pt x="1637" y="8235"/>
                </a:cubicBezTo>
              </a:path>
              <a:path w="944" h="745">
                <a:moveTo>
                  <a:pt x="1984" y="7665"/>
                </a:moveTo>
                <a:cubicBezTo>
                  <a:pt x="1940" y="7642"/>
                  <a:pt x="1923" y="7666"/>
                  <a:pt x="1885" y="7714"/>
                </a:cubicBezTo>
                <a:cubicBezTo>
                  <a:pt x="1805" y="7815"/>
                  <a:pt x="1761" y="7852"/>
                  <a:pt x="1836" y="7962"/>
                </a:cubicBezTo>
                <a:cubicBezTo>
                  <a:pt x="1873" y="8017"/>
                  <a:pt x="1952" y="7983"/>
                  <a:pt x="1984" y="7938"/>
                </a:cubicBezTo>
                <a:cubicBezTo>
                  <a:pt x="2018" y="7890"/>
                  <a:pt x="1950" y="7791"/>
                  <a:pt x="2009" y="7789"/>
                </a:cubicBezTo>
                <a:cubicBezTo>
                  <a:pt x="2027" y="7788"/>
                  <a:pt x="2081" y="7969"/>
                  <a:pt x="2084" y="7987"/>
                </a:cubicBezTo>
                <a:cubicBezTo>
                  <a:pt x="2091" y="8026"/>
                  <a:pt x="2104" y="8180"/>
                  <a:pt x="2158" y="8186"/>
                </a:cubicBezTo>
                <a:cubicBezTo>
                  <a:pt x="2183" y="8161"/>
                  <a:pt x="2191" y="8153"/>
                  <a:pt x="2208" y="8136"/>
                </a:cubicBezTo>
              </a:path>
              <a:path w="944" h="745">
                <a:moveTo>
                  <a:pt x="2208" y="7590"/>
                </a:moveTo>
                <a:cubicBezTo>
                  <a:pt x="2208" y="7716"/>
                  <a:pt x="2187" y="7817"/>
                  <a:pt x="2183" y="7938"/>
                </a:cubicBezTo>
                <a:cubicBezTo>
                  <a:pt x="2180" y="8018"/>
                  <a:pt x="2208" y="8079"/>
                  <a:pt x="2208" y="8161"/>
                </a:cubicBezTo>
                <a:cubicBezTo>
                  <a:pt x="2208" y="8205"/>
                  <a:pt x="2205" y="8218"/>
                  <a:pt x="2232" y="8235"/>
                </a:cubicBezTo>
                <a:cubicBezTo>
                  <a:pt x="2241" y="8147"/>
                  <a:pt x="2255" y="8062"/>
                  <a:pt x="2307" y="7987"/>
                </a:cubicBezTo>
                <a:cubicBezTo>
                  <a:pt x="2344" y="7934"/>
                  <a:pt x="2440" y="7958"/>
                  <a:pt x="2480" y="7987"/>
                </a:cubicBezTo>
                <a:cubicBezTo>
                  <a:pt x="2527" y="8022"/>
                  <a:pt x="2552" y="8084"/>
                  <a:pt x="2555" y="8136"/>
                </a:cubicBezTo>
                <a:cubicBezTo>
                  <a:pt x="2559" y="8206"/>
                  <a:pt x="2511" y="8227"/>
                  <a:pt x="2456" y="8260"/>
                </a:cubicBezTo>
                <a:cubicBezTo>
                  <a:pt x="2397" y="8296"/>
                  <a:pt x="2336" y="8284"/>
                  <a:pt x="2282" y="8310"/>
                </a:cubicBezTo>
                <a:cubicBezTo>
                  <a:pt x="2274" y="8318"/>
                  <a:pt x="2265" y="8326"/>
                  <a:pt x="2257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Ink 14"/>
          <p:cNvSpPr/>
          <p:nvPr/>
        </p:nvSpPr>
        <p:spPr>
          <a:xfrm>
            <a:off x="2160720" y="2616120"/>
            <a:ext cx="947520" cy="590760"/>
          </a:xfrm>
          <a:custGeom>
            <a:avLst/>
            <a:gdLst/>
            <a:ahLst/>
            <a:rect l="l" t="t" r="r" b="b"/>
            <a:pathLst>
              <a:path w="2630" h="1638">
                <a:moveTo>
                  <a:pt x="6003" y="7317"/>
                </a:moveTo>
                <a:cubicBezTo>
                  <a:pt x="6177" y="7317"/>
                  <a:pt x="6350" y="7317"/>
                  <a:pt x="6524" y="7317"/>
                </a:cubicBezTo>
              </a:path>
              <a:path w="2630" h="1638">
                <a:moveTo>
                  <a:pt x="6251" y="7317"/>
                </a:moveTo>
                <a:cubicBezTo>
                  <a:pt x="6199" y="7458"/>
                  <a:pt x="6152" y="7547"/>
                  <a:pt x="6152" y="7689"/>
                </a:cubicBezTo>
                <a:cubicBezTo>
                  <a:pt x="6152" y="7743"/>
                  <a:pt x="6139" y="7810"/>
                  <a:pt x="6201" y="7838"/>
                </a:cubicBezTo>
                <a:cubicBezTo>
                  <a:pt x="6209" y="7838"/>
                  <a:pt x="6218" y="7838"/>
                  <a:pt x="6226" y="7838"/>
                </a:cubicBezTo>
              </a:path>
              <a:path w="2630" h="1638">
                <a:moveTo>
                  <a:pt x="6474" y="7417"/>
                </a:moveTo>
                <a:cubicBezTo>
                  <a:pt x="6440" y="7472"/>
                  <a:pt x="6428" y="7545"/>
                  <a:pt x="6424" y="7615"/>
                </a:cubicBezTo>
                <a:cubicBezTo>
                  <a:pt x="6419" y="7708"/>
                  <a:pt x="6456" y="7726"/>
                  <a:pt x="6474" y="7813"/>
                </a:cubicBezTo>
                <a:cubicBezTo>
                  <a:pt x="6474" y="7830"/>
                  <a:pt x="6474" y="7846"/>
                  <a:pt x="6474" y="7863"/>
                </a:cubicBezTo>
              </a:path>
              <a:path w="2630" h="1638">
                <a:moveTo>
                  <a:pt x="6003" y="7913"/>
                </a:moveTo>
                <a:cubicBezTo>
                  <a:pt x="6226" y="7913"/>
                  <a:pt x="6449" y="7913"/>
                  <a:pt x="6672" y="7913"/>
                </a:cubicBezTo>
              </a:path>
              <a:path w="2630" h="1638">
                <a:moveTo>
                  <a:pt x="6152" y="8086"/>
                </a:moveTo>
                <a:cubicBezTo>
                  <a:pt x="6227" y="8086"/>
                  <a:pt x="6281" y="8100"/>
                  <a:pt x="6350" y="8111"/>
                </a:cubicBezTo>
                <a:cubicBezTo>
                  <a:pt x="6446" y="8127"/>
                  <a:pt x="6480" y="8135"/>
                  <a:pt x="6449" y="8235"/>
                </a:cubicBezTo>
                <a:cubicBezTo>
                  <a:pt x="6418" y="8336"/>
                  <a:pt x="6376" y="8346"/>
                  <a:pt x="6300" y="8409"/>
                </a:cubicBezTo>
                <a:cubicBezTo>
                  <a:pt x="6241" y="8458"/>
                  <a:pt x="6207" y="8512"/>
                  <a:pt x="6152" y="8558"/>
                </a:cubicBezTo>
                <a:cubicBezTo>
                  <a:pt x="6144" y="8566"/>
                  <a:pt x="6135" y="8574"/>
                  <a:pt x="6127" y="8582"/>
                </a:cubicBezTo>
                <a:cubicBezTo>
                  <a:pt x="6195" y="8662"/>
                  <a:pt x="6265" y="8678"/>
                  <a:pt x="6375" y="8682"/>
                </a:cubicBezTo>
                <a:cubicBezTo>
                  <a:pt x="6466" y="8682"/>
                  <a:pt x="6507" y="8682"/>
                  <a:pt x="6573" y="8682"/>
                </a:cubicBezTo>
              </a:path>
              <a:path w="2630" h="1638">
                <a:moveTo>
                  <a:pt x="6896" y="7913"/>
                </a:moveTo>
                <a:cubicBezTo>
                  <a:pt x="7003" y="7905"/>
                  <a:pt x="7021" y="7909"/>
                  <a:pt x="7119" y="7913"/>
                </a:cubicBezTo>
                <a:cubicBezTo>
                  <a:pt x="7152" y="7913"/>
                  <a:pt x="7185" y="7913"/>
                  <a:pt x="7218" y="7913"/>
                </a:cubicBezTo>
              </a:path>
              <a:path w="2630" h="1638">
                <a:moveTo>
                  <a:pt x="7714" y="7441"/>
                </a:moveTo>
                <a:cubicBezTo>
                  <a:pt x="7756" y="7382"/>
                  <a:pt x="7797" y="7302"/>
                  <a:pt x="7888" y="7342"/>
                </a:cubicBezTo>
                <a:cubicBezTo>
                  <a:pt x="7913" y="7359"/>
                  <a:pt x="7937" y="7375"/>
                  <a:pt x="7962" y="7392"/>
                </a:cubicBezTo>
                <a:cubicBezTo>
                  <a:pt x="7937" y="7494"/>
                  <a:pt x="7913" y="7478"/>
                  <a:pt x="7838" y="7516"/>
                </a:cubicBezTo>
                <a:cubicBezTo>
                  <a:pt x="7777" y="7547"/>
                  <a:pt x="7757" y="7580"/>
                  <a:pt x="7689" y="7590"/>
                </a:cubicBezTo>
                <a:cubicBezTo>
                  <a:pt x="7681" y="7581"/>
                  <a:pt x="7732" y="7529"/>
                  <a:pt x="7789" y="7516"/>
                </a:cubicBezTo>
                <a:cubicBezTo>
                  <a:pt x="7830" y="7506"/>
                  <a:pt x="7908" y="7541"/>
                  <a:pt x="7938" y="7565"/>
                </a:cubicBezTo>
                <a:cubicBezTo>
                  <a:pt x="7976" y="7595"/>
                  <a:pt x="7972" y="7693"/>
                  <a:pt x="7962" y="7739"/>
                </a:cubicBezTo>
                <a:cubicBezTo>
                  <a:pt x="7935" y="7866"/>
                  <a:pt x="7817" y="7838"/>
                  <a:pt x="7714" y="7838"/>
                </a:cubicBezTo>
                <a:cubicBezTo>
                  <a:pt x="7670" y="7838"/>
                  <a:pt x="7656" y="7841"/>
                  <a:pt x="7640" y="7813"/>
                </a:cubicBezTo>
              </a:path>
              <a:path w="2630" h="1638">
                <a:moveTo>
                  <a:pt x="8186" y="7466"/>
                </a:moveTo>
                <a:cubicBezTo>
                  <a:pt x="8318" y="7466"/>
                  <a:pt x="8450" y="7466"/>
                  <a:pt x="8582" y="7466"/>
                </a:cubicBezTo>
              </a:path>
              <a:path w="2630" h="1638">
                <a:moveTo>
                  <a:pt x="8310" y="7466"/>
                </a:moveTo>
                <a:cubicBezTo>
                  <a:pt x="8276" y="7567"/>
                  <a:pt x="8241" y="7660"/>
                  <a:pt x="8235" y="7764"/>
                </a:cubicBezTo>
                <a:cubicBezTo>
                  <a:pt x="8231" y="7829"/>
                  <a:pt x="8272" y="7859"/>
                  <a:pt x="8285" y="7913"/>
                </a:cubicBezTo>
              </a:path>
              <a:path w="2630" h="1638">
                <a:moveTo>
                  <a:pt x="8508" y="7491"/>
                </a:moveTo>
                <a:cubicBezTo>
                  <a:pt x="8495" y="7597"/>
                  <a:pt x="8445" y="7760"/>
                  <a:pt x="8508" y="7863"/>
                </a:cubicBezTo>
                <a:cubicBezTo>
                  <a:pt x="8539" y="7913"/>
                  <a:pt x="8550" y="7926"/>
                  <a:pt x="8558" y="7987"/>
                </a:cubicBezTo>
              </a:path>
              <a:path w="2630" h="1638">
                <a:moveTo>
                  <a:pt x="7838" y="8037"/>
                </a:moveTo>
                <a:cubicBezTo>
                  <a:pt x="7959" y="8059"/>
                  <a:pt x="8065" y="8050"/>
                  <a:pt x="8186" y="8062"/>
                </a:cubicBezTo>
                <a:cubicBezTo>
                  <a:pt x="8315" y="8075"/>
                  <a:pt x="8429" y="8086"/>
                  <a:pt x="8558" y="8086"/>
                </a:cubicBezTo>
                <a:cubicBezTo>
                  <a:pt x="8566" y="8086"/>
                  <a:pt x="8574" y="8086"/>
                  <a:pt x="8582" y="8086"/>
                </a:cubicBezTo>
              </a:path>
              <a:path w="2630" h="1638">
                <a:moveTo>
                  <a:pt x="8359" y="8161"/>
                </a:moveTo>
                <a:cubicBezTo>
                  <a:pt x="8320" y="8234"/>
                  <a:pt x="8243" y="8306"/>
                  <a:pt x="8285" y="8384"/>
                </a:cubicBezTo>
                <a:cubicBezTo>
                  <a:pt x="8328" y="8464"/>
                  <a:pt x="8413" y="8439"/>
                  <a:pt x="8483" y="8458"/>
                </a:cubicBezTo>
                <a:cubicBezTo>
                  <a:pt x="8556" y="8478"/>
                  <a:pt x="8566" y="8477"/>
                  <a:pt x="8632" y="8434"/>
                </a:cubicBezTo>
              </a:path>
              <a:path w="2630" h="1638">
                <a:moveTo>
                  <a:pt x="8607" y="8161"/>
                </a:moveTo>
                <a:cubicBezTo>
                  <a:pt x="8576" y="8238"/>
                  <a:pt x="8545" y="8300"/>
                  <a:pt x="8533" y="8384"/>
                </a:cubicBezTo>
                <a:cubicBezTo>
                  <a:pt x="8512" y="8529"/>
                  <a:pt x="8539" y="8701"/>
                  <a:pt x="8558" y="8830"/>
                </a:cubicBezTo>
                <a:cubicBezTo>
                  <a:pt x="8558" y="8855"/>
                  <a:pt x="8558" y="8880"/>
                  <a:pt x="8558" y="8905"/>
                </a:cubicBezTo>
              </a:path>
              <a:path w="2630" h="1638">
                <a:moveTo>
                  <a:pt x="6474" y="8409"/>
                </a:moveTo>
                <a:cubicBezTo>
                  <a:pt x="6497" y="8432"/>
                  <a:pt x="6505" y="8443"/>
                  <a:pt x="6499" y="8409"/>
                </a:cubicBezTo>
              </a:path>
              <a:path w="2630" h="1638">
                <a:moveTo>
                  <a:pt x="6672" y="8186"/>
                </a:moveTo>
                <a:cubicBezTo>
                  <a:pt x="6783" y="8186"/>
                  <a:pt x="6805" y="8160"/>
                  <a:pt x="6846" y="8210"/>
                </a:cubicBezTo>
                <a:cubicBezTo>
                  <a:pt x="6835" y="8305"/>
                  <a:pt x="6814" y="8341"/>
                  <a:pt x="6747" y="8409"/>
                </a:cubicBezTo>
                <a:cubicBezTo>
                  <a:pt x="6710" y="8446"/>
                  <a:pt x="6658" y="8472"/>
                  <a:pt x="6672" y="8533"/>
                </a:cubicBezTo>
                <a:cubicBezTo>
                  <a:pt x="6689" y="8605"/>
                  <a:pt x="6809" y="8622"/>
                  <a:pt x="6871" y="8632"/>
                </a:cubicBezTo>
                <a:cubicBezTo>
                  <a:pt x="6921" y="8632"/>
                  <a:pt x="6937" y="8632"/>
                  <a:pt x="6970" y="8632"/>
                </a:cubicBezTo>
              </a:path>
              <a:path w="2630" h="1638">
                <a:moveTo>
                  <a:pt x="6697" y="7516"/>
                </a:moveTo>
                <a:cubicBezTo>
                  <a:pt x="6689" y="7516"/>
                  <a:pt x="6680" y="7516"/>
                  <a:pt x="6672" y="7516"/>
                </a:cubicBezTo>
              </a:path>
              <a:path w="2630" h="1638">
                <a:moveTo>
                  <a:pt x="6821" y="7268"/>
                </a:moveTo>
                <a:cubicBezTo>
                  <a:pt x="6903" y="7278"/>
                  <a:pt x="6965" y="7287"/>
                  <a:pt x="6945" y="7392"/>
                </a:cubicBezTo>
                <a:cubicBezTo>
                  <a:pt x="6936" y="7438"/>
                  <a:pt x="6868" y="7551"/>
                  <a:pt x="6846" y="7590"/>
                </a:cubicBezTo>
                <a:cubicBezTo>
                  <a:pt x="6812" y="7650"/>
                  <a:pt x="6769" y="7674"/>
                  <a:pt x="6821" y="7739"/>
                </a:cubicBezTo>
                <a:cubicBezTo>
                  <a:pt x="6873" y="7804"/>
                  <a:pt x="6940" y="7810"/>
                  <a:pt x="7020" y="7813"/>
                </a:cubicBezTo>
                <a:cubicBezTo>
                  <a:pt x="7045" y="7813"/>
                  <a:pt x="7069" y="7813"/>
                  <a:pt x="7094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Ink 15"/>
          <p:cNvSpPr/>
          <p:nvPr/>
        </p:nvSpPr>
        <p:spPr>
          <a:xfrm>
            <a:off x="3394080" y="2678040"/>
            <a:ext cx="3375000" cy="787320"/>
          </a:xfrm>
          <a:custGeom>
            <a:avLst/>
            <a:gdLst/>
            <a:ahLst/>
            <a:rect l="l" t="t" r="r" b="b"/>
            <a:pathLst>
              <a:path w="9377" h="2184">
                <a:moveTo>
                  <a:pt x="9426" y="7938"/>
                </a:moveTo>
                <a:cubicBezTo>
                  <a:pt x="9498" y="7916"/>
                  <a:pt x="9587" y="7913"/>
                  <a:pt x="9674" y="7913"/>
                </a:cubicBezTo>
              </a:path>
              <a:path w="9377" h="2184">
                <a:moveTo>
                  <a:pt x="9500" y="8086"/>
                </a:moveTo>
                <a:cubicBezTo>
                  <a:pt x="9647" y="8152"/>
                  <a:pt x="9714" y="8201"/>
                  <a:pt x="9872" y="8210"/>
                </a:cubicBezTo>
              </a:path>
              <a:path w="9377" h="2184">
                <a:moveTo>
                  <a:pt x="10071" y="7516"/>
                </a:moveTo>
                <a:cubicBezTo>
                  <a:pt x="10111" y="7446"/>
                  <a:pt x="10151" y="7412"/>
                  <a:pt x="10244" y="7441"/>
                </a:cubicBezTo>
                <a:cubicBezTo>
                  <a:pt x="10319" y="7465"/>
                  <a:pt x="10290" y="7543"/>
                  <a:pt x="10269" y="7590"/>
                </a:cubicBezTo>
                <a:cubicBezTo>
                  <a:pt x="10249" y="7634"/>
                  <a:pt x="10213" y="7687"/>
                  <a:pt x="10170" y="7714"/>
                </a:cubicBezTo>
                <a:cubicBezTo>
                  <a:pt x="10109" y="7753"/>
                  <a:pt x="10085" y="7776"/>
                  <a:pt x="10046" y="7838"/>
                </a:cubicBezTo>
                <a:cubicBezTo>
                  <a:pt x="10094" y="7857"/>
                  <a:pt x="10224" y="7853"/>
                  <a:pt x="10294" y="7838"/>
                </a:cubicBezTo>
                <a:cubicBezTo>
                  <a:pt x="10342" y="7814"/>
                  <a:pt x="10356" y="7806"/>
                  <a:pt x="10393" y="7813"/>
                </a:cubicBezTo>
              </a:path>
              <a:path w="9377" h="2184">
                <a:moveTo>
                  <a:pt x="10443" y="7441"/>
                </a:moveTo>
                <a:cubicBezTo>
                  <a:pt x="10533" y="7464"/>
                  <a:pt x="10630" y="7443"/>
                  <a:pt x="10716" y="7466"/>
                </a:cubicBezTo>
                <a:cubicBezTo>
                  <a:pt x="10756" y="7486"/>
                  <a:pt x="10762" y="7495"/>
                  <a:pt x="10790" y="7491"/>
                </a:cubicBezTo>
              </a:path>
              <a:path w="9377" h="2184">
                <a:moveTo>
                  <a:pt x="10592" y="7516"/>
                </a:moveTo>
                <a:cubicBezTo>
                  <a:pt x="10592" y="7615"/>
                  <a:pt x="10566" y="7777"/>
                  <a:pt x="10616" y="7863"/>
                </a:cubicBezTo>
              </a:path>
              <a:path w="9377" h="2184">
                <a:moveTo>
                  <a:pt x="10815" y="7491"/>
                </a:moveTo>
                <a:cubicBezTo>
                  <a:pt x="10795" y="7605"/>
                  <a:pt x="10779" y="7687"/>
                  <a:pt x="10790" y="7789"/>
                </a:cubicBezTo>
                <a:cubicBezTo>
                  <a:pt x="10795" y="7835"/>
                  <a:pt x="10806" y="7869"/>
                  <a:pt x="10815" y="7913"/>
                </a:cubicBezTo>
              </a:path>
              <a:path w="9377" h="2184">
                <a:moveTo>
                  <a:pt x="10195" y="7962"/>
                </a:moveTo>
                <a:cubicBezTo>
                  <a:pt x="10335" y="7962"/>
                  <a:pt x="10476" y="7962"/>
                  <a:pt x="10616" y="7962"/>
                </a:cubicBezTo>
              </a:path>
              <a:path w="9377" h="2184">
                <a:moveTo>
                  <a:pt x="10443" y="8062"/>
                </a:moveTo>
                <a:cubicBezTo>
                  <a:pt x="10399" y="8168"/>
                  <a:pt x="10337" y="8247"/>
                  <a:pt x="10393" y="8359"/>
                </a:cubicBezTo>
                <a:cubicBezTo>
                  <a:pt x="10420" y="8413"/>
                  <a:pt x="10518" y="8426"/>
                  <a:pt x="10567" y="8434"/>
                </a:cubicBezTo>
              </a:path>
              <a:path w="9377" h="2184">
                <a:moveTo>
                  <a:pt x="10666" y="8136"/>
                </a:moveTo>
                <a:cubicBezTo>
                  <a:pt x="10636" y="8231"/>
                  <a:pt x="10605" y="8309"/>
                  <a:pt x="10592" y="8409"/>
                </a:cubicBezTo>
                <a:cubicBezTo>
                  <a:pt x="10580" y="8500"/>
                  <a:pt x="10567" y="8589"/>
                  <a:pt x="10567" y="8682"/>
                </a:cubicBezTo>
                <a:cubicBezTo>
                  <a:pt x="10567" y="8743"/>
                  <a:pt x="10553" y="8804"/>
                  <a:pt x="10592" y="8830"/>
                </a:cubicBezTo>
              </a:path>
              <a:path w="9377" h="2184">
                <a:moveTo>
                  <a:pt x="11038" y="8037"/>
                </a:moveTo>
                <a:cubicBezTo>
                  <a:pt x="11096" y="8037"/>
                  <a:pt x="11154" y="8037"/>
                  <a:pt x="11212" y="8037"/>
                </a:cubicBezTo>
              </a:path>
              <a:path w="9377" h="2184">
                <a:moveTo>
                  <a:pt x="11336" y="7615"/>
                </a:moveTo>
                <a:cubicBezTo>
                  <a:pt x="11425" y="7510"/>
                  <a:pt x="11450" y="7461"/>
                  <a:pt x="11584" y="7491"/>
                </a:cubicBezTo>
                <a:cubicBezTo>
                  <a:pt x="11572" y="7611"/>
                  <a:pt x="11532" y="7611"/>
                  <a:pt x="11435" y="7665"/>
                </a:cubicBezTo>
                <a:cubicBezTo>
                  <a:pt x="11410" y="7689"/>
                  <a:pt x="11401" y="7697"/>
                  <a:pt x="11385" y="7714"/>
                </a:cubicBezTo>
                <a:cubicBezTo>
                  <a:pt x="11450" y="7721"/>
                  <a:pt x="11514" y="7727"/>
                  <a:pt x="11559" y="7789"/>
                </a:cubicBezTo>
                <a:cubicBezTo>
                  <a:pt x="11606" y="7854"/>
                  <a:pt x="11590" y="7929"/>
                  <a:pt x="11559" y="7987"/>
                </a:cubicBezTo>
                <a:cubicBezTo>
                  <a:pt x="11525" y="8050"/>
                  <a:pt x="11409" y="8075"/>
                  <a:pt x="11361" y="8012"/>
                </a:cubicBezTo>
                <a:cubicBezTo>
                  <a:pt x="11353" y="7995"/>
                  <a:pt x="11344" y="7979"/>
                  <a:pt x="11336" y="7962"/>
                </a:cubicBezTo>
              </a:path>
              <a:path w="9377" h="2184">
                <a:moveTo>
                  <a:pt x="11633" y="7640"/>
                </a:moveTo>
                <a:cubicBezTo>
                  <a:pt x="11718" y="7616"/>
                  <a:pt x="11801" y="7612"/>
                  <a:pt x="11881" y="7590"/>
                </a:cubicBezTo>
                <a:cubicBezTo>
                  <a:pt x="11935" y="7563"/>
                  <a:pt x="11955" y="7551"/>
                  <a:pt x="11981" y="7516"/>
                </a:cubicBezTo>
              </a:path>
              <a:path w="9377" h="2184">
                <a:moveTo>
                  <a:pt x="11832" y="7541"/>
                </a:moveTo>
                <a:cubicBezTo>
                  <a:pt x="11808" y="7627"/>
                  <a:pt x="11786" y="7701"/>
                  <a:pt x="11782" y="7789"/>
                </a:cubicBezTo>
                <a:cubicBezTo>
                  <a:pt x="11779" y="7847"/>
                  <a:pt x="11739" y="7902"/>
                  <a:pt x="11757" y="7962"/>
                </a:cubicBezTo>
                <a:cubicBezTo>
                  <a:pt x="11777" y="8003"/>
                  <a:pt x="11786" y="8009"/>
                  <a:pt x="11782" y="8037"/>
                </a:cubicBezTo>
              </a:path>
              <a:path w="9377" h="2184">
                <a:moveTo>
                  <a:pt x="11956" y="7590"/>
                </a:moveTo>
                <a:cubicBezTo>
                  <a:pt x="11956" y="7661"/>
                  <a:pt x="11956" y="7751"/>
                  <a:pt x="11931" y="7813"/>
                </a:cubicBezTo>
                <a:cubicBezTo>
                  <a:pt x="11908" y="7871"/>
                  <a:pt x="11906" y="7917"/>
                  <a:pt x="11906" y="7987"/>
                </a:cubicBezTo>
                <a:cubicBezTo>
                  <a:pt x="11906" y="7995"/>
                  <a:pt x="11906" y="8004"/>
                  <a:pt x="11906" y="8012"/>
                </a:cubicBezTo>
              </a:path>
              <a:path w="9377" h="2184">
                <a:moveTo>
                  <a:pt x="11485" y="8111"/>
                </a:moveTo>
                <a:cubicBezTo>
                  <a:pt x="11573" y="8111"/>
                  <a:pt x="11706" y="8144"/>
                  <a:pt x="11782" y="8136"/>
                </a:cubicBezTo>
                <a:cubicBezTo>
                  <a:pt x="11837" y="8108"/>
                  <a:pt x="11860" y="8100"/>
                  <a:pt x="11906" y="8111"/>
                </a:cubicBezTo>
              </a:path>
              <a:path w="9377" h="2184">
                <a:moveTo>
                  <a:pt x="11559" y="8285"/>
                </a:moveTo>
                <a:cubicBezTo>
                  <a:pt x="11588" y="8365"/>
                  <a:pt x="11610" y="8432"/>
                  <a:pt x="11683" y="8483"/>
                </a:cubicBezTo>
                <a:cubicBezTo>
                  <a:pt x="11733" y="8508"/>
                  <a:pt x="11749" y="8516"/>
                  <a:pt x="11782" y="8533"/>
                </a:cubicBezTo>
              </a:path>
              <a:path w="9377" h="2184">
                <a:moveTo>
                  <a:pt x="11832" y="8260"/>
                </a:moveTo>
                <a:cubicBezTo>
                  <a:pt x="11799" y="8350"/>
                  <a:pt x="11777" y="8419"/>
                  <a:pt x="11757" y="8508"/>
                </a:cubicBezTo>
                <a:cubicBezTo>
                  <a:pt x="11738" y="8593"/>
                  <a:pt x="11711" y="8692"/>
                  <a:pt x="11733" y="8781"/>
                </a:cubicBezTo>
                <a:cubicBezTo>
                  <a:pt x="11750" y="8849"/>
                  <a:pt x="11757" y="8906"/>
                  <a:pt x="11757" y="8979"/>
                </a:cubicBezTo>
              </a:path>
              <a:path w="9377" h="2184">
                <a:moveTo>
                  <a:pt x="12229" y="8062"/>
                </a:moveTo>
                <a:cubicBezTo>
                  <a:pt x="12295" y="8062"/>
                  <a:pt x="12361" y="8062"/>
                  <a:pt x="12427" y="8062"/>
                </a:cubicBezTo>
              </a:path>
              <a:path w="9377" h="2184">
                <a:moveTo>
                  <a:pt x="12204" y="8260"/>
                </a:moveTo>
                <a:cubicBezTo>
                  <a:pt x="12329" y="8260"/>
                  <a:pt x="12357" y="8268"/>
                  <a:pt x="12427" y="8235"/>
                </a:cubicBezTo>
              </a:path>
              <a:path w="9377" h="2184">
                <a:moveTo>
                  <a:pt x="12626" y="7962"/>
                </a:moveTo>
                <a:cubicBezTo>
                  <a:pt x="12626" y="8061"/>
                  <a:pt x="12606" y="8140"/>
                  <a:pt x="12601" y="8235"/>
                </a:cubicBezTo>
                <a:cubicBezTo>
                  <a:pt x="12594" y="8364"/>
                  <a:pt x="12601" y="8143"/>
                  <a:pt x="12601" y="8111"/>
                </a:cubicBezTo>
                <a:cubicBezTo>
                  <a:pt x="12601" y="8029"/>
                  <a:pt x="12617" y="7966"/>
                  <a:pt x="12626" y="7888"/>
                </a:cubicBezTo>
                <a:cubicBezTo>
                  <a:pt x="12631" y="7846"/>
                  <a:pt x="12654" y="7691"/>
                  <a:pt x="12700" y="7665"/>
                </a:cubicBezTo>
                <a:cubicBezTo>
                  <a:pt x="12708" y="7673"/>
                  <a:pt x="12717" y="7681"/>
                  <a:pt x="12725" y="7689"/>
                </a:cubicBezTo>
                <a:cubicBezTo>
                  <a:pt x="12725" y="7758"/>
                  <a:pt x="12728" y="7850"/>
                  <a:pt x="12750" y="7913"/>
                </a:cubicBezTo>
                <a:cubicBezTo>
                  <a:pt x="12778" y="7994"/>
                  <a:pt x="12842" y="8039"/>
                  <a:pt x="12874" y="8111"/>
                </a:cubicBezTo>
                <a:cubicBezTo>
                  <a:pt x="12894" y="8172"/>
                  <a:pt x="12891" y="8187"/>
                  <a:pt x="12923" y="8210"/>
                </a:cubicBezTo>
                <a:cubicBezTo>
                  <a:pt x="12954" y="8160"/>
                  <a:pt x="12960" y="8120"/>
                  <a:pt x="12973" y="8062"/>
                </a:cubicBezTo>
                <a:cubicBezTo>
                  <a:pt x="13001" y="7937"/>
                  <a:pt x="12978" y="7888"/>
                  <a:pt x="12973" y="7764"/>
                </a:cubicBezTo>
                <a:cubicBezTo>
                  <a:pt x="12970" y="7691"/>
                  <a:pt x="12994" y="7655"/>
                  <a:pt x="12998" y="7590"/>
                </a:cubicBezTo>
                <a:cubicBezTo>
                  <a:pt x="13002" y="7530"/>
                  <a:pt x="13006" y="7532"/>
                  <a:pt x="13047" y="7491"/>
                </a:cubicBezTo>
              </a:path>
              <a:path w="9377" h="2184">
                <a:moveTo>
                  <a:pt x="13097" y="8012"/>
                </a:moveTo>
                <a:cubicBezTo>
                  <a:pt x="13177" y="8043"/>
                  <a:pt x="13253" y="8063"/>
                  <a:pt x="13271" y="7962"/>
                </a:cubicBezTo>
                <a:cubicBezTo>
                  <a:pt x="13284" y="7888"/>
                  <a:pt x="13268" y="7846"/>
                  <a:pt x="13196" y="7838"/>
                </a:cubicBezTo>
                <a:cubicBezTo>
                  <a:pt x="13101" y="7827"/>
                  <a:pt x="13078" y="7911"/>
                  <a:pt x="13072" y="7987"/>
                </a:cubicBezTo>
                <a:cubicBezTo>
                  <a:pt x="13068" y="8044"/>
                  <a:pt x="13090" y="8178"/>
                  <a:pt x="13146" y="8210"/>
                </a:cubicBezTo>
                <a:cubicBezTo>
                  <a:pt x="13221" y="8235"/>
                  <a:pt x="13245" y="8243"/>
                  <a:pt x="13295" y="8210"/>
                </a:cubicBezTo>
              </a:path>
              <a:path w="9377" h="2184">
                <a:moveTo>
                  <a:pt x="13469" y="7938"/>
                </a:moveTo>
                <a:cubicBezTo>
                  <a:pt x="13425" y="7863"/>
                  <a:pt x="13365" y="7912"/>
                  <a:pt x="13345" y="8012"/>
                </a:cubicBezTo>
                <a:cubicBezTo>
                  <a:pt x="13329" y="8089"/>
                  <a:pt x="13396" y="8138"/>
                  <a:pt x="13444" y="8186"/>
                </a:cubicBezTo>
                <a:cubicBezTo>
                  <a:pt x="13452" y="8194"/>
                  <a:pt x="13461" y="8202"/>
                  <a:pt x="13469" y="8210"/>
                </a:cubicBezTo>
                <a:cubicBezTo>
                  <a:pt x="13519" y="8161"/>
                  <a:pt x="13539" y="8134"/>
                  <a:pt x="13543" y="8062"/>
                </a:cubicBezTo>
                <a:cubicBezTo>
                  <a:pt x="13543" y="8010"/>
                  <a:pt x="13542" y="7992"/>
                  <a:pt x="13519" y="7962"/>
                </a:cubicBezTo>
                <a:cubicBezTo>
                  <a:pt x="13519" y="8045"/>
                  <a:pt x="13507" y="8110"/>
                  <a:pt x="13494" y="8186"/>
                </a:cubicBezTo>
                <a:cubicBezTo>
                  <a:pt x="13473" y="8309"/>
                  <a:pt x="13525" y="8440"/>
                  <a:pt x="13469" y="8558"/>
                </a:cubicBezTo>
                <a:cubicBezTo>
                  <a:pt x="13438" y="8622"/>
                  <a:pt x="13328" y="8607"/>
                  <a:pt x="13271" y="8607"/>
                </a:cubicBezTo>
                <a:cubicBezTo>
                  <a:pt x="13196" y="8607"/>
                  <a:pt x="13122" y="8607"/>
                  <a:pt x="13047" y="8607"/>
                </a:cubicBezTo>
              </a:path>
              <a:path w="9377" h="2184">
                <a:moveTo>
                  <a:pt x="10740" y="9029"/>
                </a:moveTo>
                <a:cubicBezTo>
                  <a:pt x="10722" y="9143"/>
                  <a:pt x="10715" y="9303"/>
                  <a:pt x="10666" y="9401"/>
                </a:cubicBezTo>
                <a:cubicBezTo>
                  <a:pt x="10666" y="9280"/>
                  <a:pt x="10675" y="9171"/>
                  <a:pt x="10691" y="9054"/>
                </a:cubicBezTo>
                <a:cubicBezTo>
                  <a:pt x="10703" y="8966"/>
                  <a:pt x="10691" y="8870"/>
                  <a:pt x="10691" y="8781"/>
                </a:cubicBezTo>
                <a:cubicBezTo>
                  <a:pt x="10719" y="8852"/>
                  <a:pt x="10773" y="8933"/>
                  <a:pt x="10790" y="9004"/>
                </a:cubicBezTo>
                <a:cubicBezTo>
                  <a:pt x="10805" y="9067"/>
                  <a:pt x="10808" y="9156"/>
                  <a:pt x="10864" y="9203"/>
                </a:cubicBezTo>
                <a:cubicBezTo>
                  <a:pt x="10911" y="9243"/>
                  <a:pt x="10942" y="9281"/>
                  <a:pt x="10988" y="9327"/>
                </a:cubicBezTo>
                <a:cubicBezTo>
                  <a:pt x="10996" y="9335"/>
                  <a:pt x="11005" y="9343"/>
                  <a:pt x="11013" y="9351"/>
                </a:cubicBezTo>
                <a:cubicBezTo>
                  <a:pt x="11042" y="9274"/>
                  <a:pt x="11038" y="9213"/>
                  <a:pt x="11038" y="9128"/>
                </a:cubicBezTo>
                <a:cubicBezTo>
                  <a:pt x="11038" y="8938"/>
                  <a:pt x="11038" y="8748"/>
                  <a:pt x="11038" y="8558"/>
                </a:cubicBezTo>
              </a:path>
              <a:path w="9377" h="2184">
                <a:moveTo>
                  <a:pt x="11237" y="8930"/>
                </a:moveTo>
                <a:cubicBezTo>
                  <a:pt x="11237" y="9004"/>
                  <a:pt x="11216" y="9058"/>
                  <a:pt x="11212" y="9128"/>
                </a:cubicBezTo>
                <a:cubicBezTo>
                  <a:pt x="11209" y="9190"/>
                  <a:pt x="11204" y="9261"/>
                  <a:pt x="11261" y="9302"/>
                </a:cubicBezTo>
                <a:cubicBezTo>
                  <a:pt x="11324" y="9347"/>
                  <a:pt x="11359" y="9351"/>
                  <a:pt x="11435" y="9351"/>
                </a:cubicBezTo>
                <a:cubicBezTo>
                  <a:pt x="11508" y="9351"/>
                  <a:pt x="11565" y="9308"/>
                  <a:pt x="11584" y="9227"/>
                </a:cubicBezTo>
                <a:cubicBezTo>
                  <a:pt x="11603" y="9147"/>
                  <a:pt x="11578" y="9047"/>
                  <a:pt x="11534" y="8979"/>
                </a:cubicBezTo>
                <a:cubicBezTo>
                  <a:pt x="11484" y="8901"/>
                  <a:pt x="11395" y="8846"/>
                  <a:pt x="11311" y="8830"/>
                </a:cubicBezTo>
                <a:cubicBezTo>
                  <a:pt x="11294" y="8830"/>
                  <a:pt x="11278" y="8830"/>
                  <a:pt x="11261" y="8830"/>
                </a:cubicBezTo>
              </a:path>
              <a:path w="9377" h="2184">
                <a:moveTo>
                  <a:pt x="11733" y="9004"/>
                </a:moveTo>
                <a:cubicBezTo>
                  <a:pt x="11760" y="9127"/>
                  <a:pt x="11782" y="9502"/>
                  <a:pt x="11782" y="9376"/>
                </a:cubicBezTo>
                <a:cubicBezTo>
                  <a:pt x="11782" y="9287"/>
                  <a:pt x="11761" y="9212"/>
                  <a:pt x="11757" y="9128"/>
                </a:cubicBezTo>
                <a:cubicBezTo>
                  <a:pt x="11753" y="9031"/>
                  <a:pt x="11734" y="8884"/>
                  <a:pt x="11782" y="8806"/>
                </a:cubicBezTo>
                <a:cubicBezTo>
                  <a:pt x="11789" y="8886"/>
                  <a:pt x="11805" y="8962"/>
                  <a:pt x="11857" y="9029"/>
                </a:cubicBezTo>
                <a:cubicBezTo>
                  <a:pt x="11911" y="9100"/>
                  <a:pt x="11940" y="9162"/>
                  <a:pt x="12005" y="9227"/>
                </a:cubicBezTo>
                <a:cubicBezTo>
                  <a:pt x="12061" y="9283"/>
                  <a:pt x="12080" y="9316"/>
                  <a:pt x="12154" y="9327"/>
                </a:cubicBezTo>
                <a:cubicBezTo>
                  <a:pt x="12185" y="9265"/>
                  <a:pt x="12179" y="9202"/>
                  <a:pt x="12179" y="9128"/>
                </a:cubicBezTo>
                <a:cubicBezTo>
                  <a:pt x="12179" y="9051"/>
                  <a:pt x="12175" y="8975"/>
                  <a:pt x="12154" y="8905"/>
                </a:cubicBezTo>
                <a:cubicBezTo>
                  <a:pt x="12134" y="8864"/>
                  <a:pt x="12125" y="8858"/>
                  <a:pt x="12129" y="8830"/>
                </a:cubicBezTo>
              </a:path>
              <a:path w="9377" h="2184">
                <a:moveTo>
                  <a:pt x="12576" y="8781"/>
                </a:moveTo>
                <a:cubicBezTo>
                  <a:pt x="12485" y="8808"/>
                  <a:pt x="12391" y="8807"/>
                  <a:pt x="12303" y="8855"/>
                </a:cubicBezTo>
                <a:cubicBezTo>
                  <a:pt x="12219" y="8900"/>
                  <a:pt x="12215" y="8903"/>
                  <a:pt x="12204" y="8979"/>
                </a:cubicBezTo>
                <a:cubicBezTo>
                  <a:pt x="12245" y="9006"/>
                  <a:pt x="12326" y="9069"/>
                  <a:pt x="12378" y="9079"/>
                </a:cubicBezTo>
                <a:cubicBezTo>
                  <a:pt x="12446" y="9091"/>
                  <a:pt x="12492" y="9077"/>
                  <a:pt x="12551" y="9054"/>
                </a:cubicBezTo>
                <a:cubicBezTo>
                  <a:pt x="12486" y="9061"/>
                  <a:pt x="12377" y="9075"/>
                  <a:pt x="12328" y="9128"/>
                </a:cubicBezTo>
                <a:cubicBezTo>
                  <a:pt x="12280" y="9180"/>
                  <a:pt x="12351" y="9270"/>
                  <a:pt x="12378" y="9327"/>
                </a:cubicBezTo>
                <a:cubicBezTo>
                  <a:pt x="12417" y="9410"/>
                  <a:pt x="12589" y="9478"/>
                  <a:pt x="12675" y="9525"/>
                </a:cubicBezTo>
                <a:cubicBezTo>
                  <a:pt x="12740" y="9560"/>
                  <a:pt x="12802" y="9550"/>
                  <a:pt x="12874" y="9550"/>
                </a:cubicBezTo>
              </a:path>
              <a:path w="9377" h="2184">
                <a:moveTo>
                  <a:pt x="10319" y="8607"/>
                </a:moveTo>
                <a:cubicBezTo>
                  <a:pt x="10302" y="8699"/>
                  <a:pt x="10310" y="8790"/>
                  <a:pt x="10294" y="8880"/>
                </a:cubicBezTo>
                <a:cubicBezTo>
                  <a:pt x="10273" y="8998"/>
                  <a:pt x="10269" y="9103"/>
                  <a:pt x="10269" y="9227"/>
                </a:cubicBezTo>
                <a:cubicBezTo>
                  <a:pt x="10269" y="9295"/>
                  <a:pt x="10266" y="9314"/>
                  <a:pt x="10294" y="9351"/>
                </a:cubicBezTo>
                <a:cubicBezTo>
                  <a:pt x="10313" y="9259"/>
                  <a:pt x="10319" y="9178"/>
                  <a:pt x="10319" y="9079"/>
                </a:cubicBezTo>
                <a:cubicBezTo>
                  <a:pt x="10319" y="8986"/>
                  <a:pt x="10328" y="8896"/>
                  <a:pt x="10344" y="8806"/>
                </a:cubicBezTo>
                <a:cubicBezTo>
                  <a:pt x="10359" y="8726"/>
                  <a:pt x="10355" y="8665"/>
                  <a:pt x="10418" y="8607"/>
                </a:cubicBezTo>
                <a:cubicBezTo>
                  <a:pt x="10488" y="8542"/>
                  <a:pt x="10559" y="8518"/>
                  <a:pt x="10666" y="8508"/>
                </a:cubicBezTo>
                <a:cubicBezTo>
                  <a:pt x="10949" y="8481"/>
                  <a:pt x="11254" y="8504"/>
                  <a:pt x="11534" y="8533"/>
                </a:cubicBezTo>
                <a:cubicBezTo>
                  <a:pt x="11761" y="8556"/>
                  <a:pt x="11977" y="8582"/>
                  <a:pt x="12204" y="8582"/>
                </a:cubicBezTo>
                <a:cubicBezTo>
                  <a:pt x="12380" y="8582"/>
                  <a:pt x="12552" y="8595"/>
                  <a:pt x="12725" y="8607"/>
                </a:cubicBezTo>
                <a:cubicBezTo>
                  <a:pt x="12802" y="8612"/>
                  <a:pt x="12859" y="8601"/>
                  <a:pt x="12923" y="8632"/>
                </a:cubicBezTo>
                <a:cubicBezTo>
                  <a:pt x="13024" y="8681"/>
                  <a:pt x="13044" y="8758"/>
                  <a:pt x="13072" y="8855"/>
                </a:cubicBezTo>
                <a:cubicBezTo>
                  <a:pt x="13092" y="8926"/>
                  <a:pt x="13085" y="8982"/>
                  <a:pt x="13097" y="9054"/>
                </a:cubicBezTo>
                <a:cubicBezTo>
                  <a:pt x="13109" y="9123"/>
                  <a:pt x="13120" y="9180"/>
                  <a:pt x="13122" y="9252"/>
                </a:cubicBezTo>
                <a:cubicBezTo>
                  <a:pt x="13125" y="9344"/>
                  <a:pt x="13143" y="9406"/>
                  <a:pt x="13146" y="9500"/>
                </a:cubicBezTo>
                <a:cubicBezTo>
                  <a:pt x="13146" y="9517"/>
                  <a:pt x="13146" y="9533"/>
                  <a:pt x="13146" y="9550"/>
                </a:cubicBezTo>
                <a:cubicBezTo>
                  <a:pt x="12805" y="9550"/>
                  <a:pt x="12468" y="9544"/>
                  <a:pt x="12129" y="9525"/>
                </a:cubicBezTo>
                <a:cubicBezTo>
                  <a:pt x="11977" y="9516"/>
                  <a:pt x="11833" y="9486"/>
                  <a:pt x="11683" y="9475"/>
                </a:cubicBezTo>
                <a:cubicBezTo>
                  <a:pt x="11391" y="9454"/>
                  <a:pt x="11106" y="9384"/>
                  <a:pt x="10815" y="9351"/>
                </a:cubicBezTo>
                <a:cubicBezTo>
                  <a:pt x="10611" y="9328"/>
                  <a:pt x="10396" y="9318"/>
                  <a:pt x="10195" y="9302"/>
                </a:cubicBezTo>
                <a:cubicBezTo>
                  <a:pt x="10104" y="9295"/>
                  <a:pt x="10109" y="9276"/>
                  <a:pt x="10021" y="9302"/>
                </a:cubicBezTo>
                <a:cubicBezTo>
                  <a:pt x="10004" y="9310"/>
                  <a:pt x="9988" y="9319"/>
                  <a:pt x="9971" y="9327"/>
                </a:cubicBezTo>
              </a:path>
              <a:path w="9377" h="2184">
                <a:moveTo>
                  <a:pt x="14312" y="7838"/>
                </a:moveTo>
                <a:cubicBezTo>
                  <a:pt x="14502" y="7838"/>
                  <a:pt x="14693" y="7838"/>
                  <a:pt x="14883" y="7838"/>
                </a:cubicBezTo>
              </a:path>
              <a:path w="9377" h="2184">
                <a:moveTo>
                  <a:pt x="14585" y="7863"/>
                </a:moveTo>
                <a:cubicBezTo>
                  <a:pt x="14568" y="7948"/>
                  <a:pt x="14567" y="8058"/>
                  <a:pt x="14536" y="8136"/>
                </a:cubicBezTo>
                <a:cubicBezTo>
                  <a:pt x="14498" y="8231"/>
                  <a:pt x="14458" y="8272"/>
                  <a:pt x="14511" y="8359"/>
                </a:cubicBezTo>
              </a:path>
              <a:path w="9377" h="2184">
                <a:moveTo>
                  <a:pt x="14808" y="7913"/>
                </a:moveTo>
                <a:cubicBezTo>
                  <a:pt x="14791" y="8069"/>
                  <a:pt x="14778" y="8148"/>
                  <a:pt x="14808" y="8285"/>
                </a:cubicBezTo>
                <a:cubicBezTo>
                  <a:pt x="14808" y="8293"/>
                  <a:pt x="14808" y="8302"/>
                  <a:pt x="14808" y="8310"/>
                </a:cubicBezTo>
              </a:path>
              <a:path w="9377" h="2184">
                <a:moveTo>
                  <a:pt x="15329" y="8310"/>
                </a:moveTo>
                <a:cubicBezTo>
                  <a:pt x="15480" y="8310"/>
                  <a:pt x="15504" y="8332"/>
                  <a:pt x="15577" y="8285"/>
                </a:cubicBezTo>
              </a:path>
              <a:path w="9377" h="2184">
                <a:moveTo>
                  <a:pt x="15925" y="7863"/>
                </a:moveTo>
                <a:cubicBezTo>
                  <a:pt x="16007" y="7832"/>
                  <a:pt x="16027" y="7849"/>
                  <a:pt x="16098" y="7863"/>
                </a:cubicBezTo>
                <a:cubicBezTo>
                  <a:pt x="16158" y="7875"/>
                  <a:pt x="16218" y="7922"/>
                  <a:pt x="16173" y="7987"/>
                </a:cubicBezTo>
                <a:cubicBezTo>
                  <a:pt x="16137" y="8038"/>
                  <a:pt x="16084" y="8074"/>
                  <a:pt x="16024" y="8086"/>
                </a:cubicBezTo>
                <a:cubicBezTo>
                  <a:pt x="15974" y="8086"/>
                  <a:pt x="15958" y="8086"/>
                  <a:pt x="15925" y="8086"/>
                </a:cubicBezTo>
                <a:cubicBezTo>
                  <a:pt x="15989" y="8125"/>
                  <a:pt x="16039" y="8101"/>
                  <a:pt x="16098" y="8161"/>
                </a:cubicBezTo>
                <a:cubicBezTo>
                  <a:pt x="16130" y="8193"/>
                  <a:pt x="16224" y="8259"/>
                  <a:pt x="16222" y="8310"/>
                </a:cubicBezTo>
                <a:cubicBezTo>
                  <a:pt x="16218" y="8408"/>
                  <a:pt x="16176" y="8443"/>
                  <a:pt x="16098" y="8458"/>
                </a:cubicBezTo>
                <a:cubicBezTo>
                  <a:pt x="16033" y="8471"/>
                  <a:pt x="15950" y="8436"/>
                  <a:pt x="15900" y="8409"/>
                </a:cubicBezTo>
                <a:cubicBezTo>
                  <a:pt x="15855" y="8385"/>
                  <a:pt x="15836" y="8370"/>
                  <a:pt x="15801" y="8334"/>
                </a:cubicBezTo>
              </a:path>
              <a:path w="9377" h="2184">
                <a:moveTo>
                  <a:pt x="16272" y="7913"/>
                </a:moveTo>
                <a:cubicBezTo>
                  <a:pt x="16374" y="7889"/>
                  <a:pt x="16465" y="7888"/>
                  <a:pt x="16570" y="7888"/>
                </a:cubicBezTo>
                <a:cubicBezTo>
                  <a:pt x="16619" y="7888"/>
                  <a:pt x="16669" y="7888"/>
                  <a:pt x="16718" y="7888"/>
                </a:cubicBezTo>
              </a:path>
              <a:path w="9377" h="2184">
                <a:moveTo>
                  <a:pt x="16545" y="7962"/>
                </a:moveTo>
                <a:cubicBezTo>
                  <a:pt x="16536" y="8028"/>
                  <a:pt x="16487" y="8215"/>
                  <a:pt x="16495" y="8285"/>
                </a:cubicBezTo>
                <a:cubicBezTo>
                  <a:pt x="16501" y="8335"/>
                  <a:pt x="16520" y="8418"/>
                  <a:pt x="16545" y="8458"/>
                </a:cubicBezTo>
              </a:path>
              <a:path w="9377" h="2184">
                <a:moveTo>
                  <a:pt x="16718" y="7962"/>
                </a:moveTo>
                <a:cubicBezTo>
                  <a:pt x="16713" y="8016"/>
                  <a:pt x="16668" y="8262"/>
                  <a:pt x="16694" y="8359"/>
                </a:cubicBezTo>
                <a:cubicBezTo>
                  <a:pt x="16718" y="8409"/>
                  <a:pt x="16726" y="8425"/>
                  <a:pt x="16743" y="8458"/>
                </a:cubicBezTo>
              </a:path>
              <a:path w="9377" h="2184">
                <a:moveTo>
                  <a:pt x="15974" y="8582"/>
                </a:moveTo>
                <a:cubicBezTo>
                  <a:pt x="16074" y="8582"/>
                  <a:pt x="16148" y="8604"/>
                  <a:pt x="16247" y="8607"/>
                </a:cubicBezTo>
                <a:cubicBezTo>
                  <a:pt x="16358" y="8611"/>
                  <a:pt x="16461" y="8628"/>
                  <a:pt x="16570" y="8632"/>
                </a:cubicBezTo>
                <a:cubicBezTo>
                  <a:pt x="16595" y="8632"/>
                  <a:pt x="16619" y="8632"/>
                  <a:pt x="16644" y="8632"/>
                </a:cubicBezTo>
              </a:path>
              <a:path w="9377" h="2184">
                <a:moveTo>
                  <a:pt x="16396" y="8830"/>
                </a:moveTo>
                <a:cubicBezTo>
                  <a:pt x="16350" y="8892"/>
                  <a:pt x="16321" y="8940"/>
                  <a:pt x="16396" y="9004"/>
                </a:cubicBezTo>
                <a:cubicBezTo>
                  <a:pt x="16469" y="9066"/>
                  <a:pt x="16525" y="9072"/>
                  <a:pt x="16619" y="9079"/>
                </a:cubicBezTo>
              </a:path>
              <a:path w="9377" h="2184">
                <a:moveTo>
                  <a:pt x="16768" y="8756"/>
                </a:moveTo>
                <a:cubicBezTo>
                  <a:pt x="16721" y="8955"/>
                  <a:pt x="16694" y="9145"/>
                  <a:pt x="16694" y="9351"/>
                </a:cubicBezTo>
                <a:cubicBezTo>
                  <a:pt x="16694" y="9422"/>
                  <a:pt x="16702" y="9489"/>
                  <a:pt x="16743" y="9475"/>
                </a:cubicBezTo>
              </a:path>
              <a:path w="9377" h="2184">
                <a:moveTo>
                  <a:pt x="17388" y="8508"/>
                </a:moveTo>
                <a:cubicBezTo>
                  <a:pt x="17481" y="8489"/>
                  <a:pt x="17510" y="8469"/>
                  <a:pt x="17587" y="8508"/>
                </a:cubicBezTo>
              </a:path>
              <a:path w="9377" h="2184">
                <a:moveTo>
                  <a:pt x="17388" y="8632"/>
                </a:moveTo>
                <a:cubicBezTo>
                  <a:pt x="17479" y="8647"/>
                  <a:pt x="17546" y="8657"/>
                  <a:pt x="17636" y="8657"/>
                </a:cubicBezTo>
              </a:path>
              <a:path w="9377" h="2184">
                <a:moveTo>
                  <a:pt x="14139" y="7739"/>
                </a:moveTo>
                <a:cubicBezTo>
                  <a:pt x="14156" y="7836"/>
                  <a:pt x="14158" y="7844"/>
                  <a:pt x="14089" y="7913"/>
                </a:cubicBezTo>
                <a:cubicBezTo>
                  <a:pt x="14061" y="7941"/>
                  <a:pt x="14035" y="8041"/>
                  <a:pt x="14089" y="8062"/>
                </a:cubicBezTo>
                <a:cubicBezTo>
                  <a:pt x="14159" y="8089"/>
                  <a:pt x="14179" y="8053"/>
                  <a:pt x="14213" y="8012"/>
                </a:cubicBezTo>
              </a:path>
              <a:path w="9377" h="2184">
                <a:moveTo>
                  <a:pt x="14213" y="7665"/>
                </a:moveTo>
                <a:cubicBezTo>
                  <a:pt x="14193" y="7771"/>
                  <a:pt x="14170" y="7882"/>
                  <a:pt x="14139" y="7987"/>
                </a:cubicBezTo>
                <a:cubicBezTo>
                  <a:pt x="14112" y="8080"/>
                  <a:pt x="14114" y="8164"/>
                  <a:pt x="14114" y="8260"/>
                </a:cubicBezTo>
                <a:cubicBezTo>
                  <a:pt x="14114" y="8277"/>
                  <a:pt x="14114" y="8293"/>
                  <a:pt x="14114" y="8310"/>
                </a:cubicBezTo>
              </a:path>
              <a:path w="9377" h="2184">
                <a:moveTo>
                  <a:pt x="13915" y="8434"/>
                </a:moveTo>
                <a:cubicBezTo>
                  <a:pt x="14067" y="8434"/>
                  <a:pt x="14211" y="8414"/>
                  <a:pt x="14362" y="8409"/>
                </a:cubicBezTo>
                <a:cubicBezTo>
                  <a:pt x="14519" y="8404"/>
                  <a:pt x="14676" y="8409"/>
                  <a:pt x="14833" y="8409"/>
                </a:cubicBezTo>
              </a:path>
              <a:path w="9377" h="2184">
                <a:moveTo>
                  <a:pt x="14387" y="8533"/>
                </a:moveTo>
                <a:cubicBezTo>
                  <a:pt x="14361" y="8585"/>
                  <a:pt x="14301" y="8650"/>
                  <a:pt x="14288" y="8706"/>
                </a:cubicBezTo>
                <a:cubicBezTo>
                  <a:pt x="14264" y="8809"/>
                  <a:pt x="14342" y="8815"/>
                  <a:pt x="14412" y="8830"/>
                </a:cubicBezTo>
                <a:cubicBezTo>
                  <a:pt x="14494" y="8851"/>
                  <a:pt x="14509" y="8859"/>
                  <a:pt x="14560" y="8855"/>
                </a:cubicBezTo>
              </a:path>
              <a:path w="9377" h="2184">
                <a:moveTo>
                  <a:pt x="14610" y="8607"/>
                </a:moveTo>
                <a:cubicBezTo>
                  <a:pt x="14555" y="8689"/>
                  <a:pt x="14482" y="8781"/>
                  <a:pt x="14461" y="8880"/>
                </a:cubicBezTo>
                <a:cubicBezTo>
                  <a:pt x="14439" y="8986"/>
                  <a:pt x="14446" y="9048"/>
                  <a:pt x="14486" y="9153"/>
                </a:cubicBezTo>
                <a:cubicBezTo>
                  <a:pt x="14496" y="9180"/>
                  <a:pt x="14583" y="9314"/>
                  <a:pt x="14585" y="9302"/>
                </a:cubicBezTo>
                <a:cubicBezTo>
                  <a:pt x="14585" y="9261"/>
                  <a:pt x="14585" y="9219"/>
                  <a:pt x="14585" y="9178"/>
                </a:cubicBezTo>
              </a:path>
              <a:path w="9377" h="2184">
                <a:moveTo>
                  <a:pt x="18157" y="8012"/>
                </a:moveTo>
                <a:cubicBezTo>
                  <a:pt x="18284" y="7986"/>
                  <a:pt x="18399" y="7987"/>
                  <a:pt x="18529" y="7987"/>
                </a:cubicBezTo>
                <a:cubicBezTo>
                  <a:pt x="18616" y="7987"/>
                  <a:pt x="18687" y="8012"/>
                  <a:pt x="18777" y="8012"/>
                </a:cubicBezTo>
              </a:path>
              <a:path w="9377" h="2184">
                <a:moveTo>
                  <a:pt x="18479" y="7938"/>
                </a:moveTo>
                <a:cubicBezTo>
                  <a:pt x="18443" y="8062"/>
                  <a:pt x="18405" y="8160"/>
                  <a:pt x="18405" y="8285"/>
                </a:cubicBezTo>
                <a:cubicBezTo>
                  <a:pt x="18405" y="8354"/>
                  <a:pt x="18380" y="8410"/>
                  <a:pt x="18380" y="8483"/>
                </a:cubicBezTo>
              </a:path>
              <a:path w="9377" h="2184">
                <a:moveTo>
                  <a:pt x="18554" y="8086"/>
                </a:moveTo>
                <a:cubicBezTo>
                  <a:pt x="18529" y="8201"/>
                  <a:pt x="18519" y="8253"/>
                  <a:pt x="18529" y="8359"/>
                </a:cubicBezTo>
                <a:cubicBezTo>
                  <a:pt x="18535" y="8420"/>
                  <a:pt x="18541" y="8456"/>
                  <a:pt x="18554" y="8508"/>
                </a:cubicBezTo>
              </a:path>
              <a:path w="9377" h="2184">
                <a:moveTo>
                  <a:pt x="18182" y="8632"/>
                </a:moveTo>
                <a:cubicBezTo>
                  <a:pt x="18313" y="8632"/>
                  <a:pt x="18426" y="8652"/>
                  <a:pt x="18554" y="8657"/>
                </a:cubicBezTo>
                <a:cubicBezTo>
                  <a:pt x="18636" y="8660"/>
                  <a:pt x="18720" y="8657"/>
                  <a:pt x="18802" y="8657"/>
                </a:cubicBezTo>
              </a:path>
              <a:path w="9377" h="2184">
                <a:moveTo>
                  <a:pt x="18430" y="8880"/>
                </a:moveTo>
                <a:cubicBezTo>
                  <a:pt x="18387" y="8959"/>
                  <a:pt x="18324" y="9005"/>
                  <a:pt x="18355" y="9079"/>
                </a:cubicBezTo>
                <a:cubicBezTo>
                  <a:pt x="18391" y="9167"/>
                  <a:pt x="18440" y="9174"/>
                  <a:pt x="18529" y="9178"/>
                </a:cubicBezTo>
                <a:cubicBezTo>
                  <a:pt x="18603" y="9182"/>
                  <a:pt x="18678" y="9178"/>
                  <a:pt x="18752" y="9178"/>
                </a:cubicBezTo>
              </a:path>
              <a:path w="9377" h="2184">
                <a:moveTo>
                  <a:pt x="18703" y="8806"/>
                </a:moveTo>
                <a:cubicBezTo>
                  <a:pt x="18661" y="8991"/>
                  <a:pt x="18609" y="9163"/>
                  <a:pt x="18604" y="9351"/>
                </a:cubicBezTo>
                <a:cubicBezTo>
                  <a:pt x="18602" y="9442"/>
                  <a:pt x="18604" y="9533"/>
                  <a:pt x="18604" y="96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Ink 16"/>
          <p:cNvSpPr/>
          <p:nvPr/>
        </p:nvSpPr>
        <p:spPr>
          <a:xfrm>
            <a:off x="490680" y="3544920"/>
            <a:ext cx="465120" cy="312840"/>
          </a:xfrm>
          <a:custGeom>
            <a:avLst/>
            <a:gdLst/>
            <a:ahLst/>
            <a:rect l="l" t="t" r="r" b="b"/>
            <a:pathLst>
              <a:path w="1291" h="870">
                <a:moveTo>
                  <a:pt x="1364" y="9971"/>
                </a:moveTo>
                <a:cubicBezTo>
                  <a:pt x="1376" y="9890"/>
                  <a:pt x="1423" y="9861"/>
                  <a:pt x="1513" y="9847"/>
                </a:cubicBezTo>
                <a:cubicBezTo>
                  <a:pt x="1559" y="9840"/>
                  <a:pt x="1713" y="9834"/>
                  <a:pt x="1736" y="9897"/>
                </a:cubicBezTo>
                <a:cubicBezTo>
                  <a:pt x="1769" y="9987"/>
                  <a:pt x="1717" y="10047"/>
                  <a:pt x="1687" y="10120"/>
                </a:cubicBezTo>
                <a:cubicBezTo>
                  <a:pt x="1648" y="10216"/>
                  <a:pt x="1586" y="10237"/>
                  <a:pt x="1538" y="10319"/>
                </a:cubicBezTo>
                <a:cubicBezTo>
                  <a:pt x="1516" y="10356"/>
                  <a:pt x="1478" y="10451"/>
                  <a:pt x="1488" y="10492"/>
                </a:cubicBezTo>
                <a:cubicBezTo>
                  <a:pt x="1515" y="10606"/>
                  <a:pt x="1605" y="10560"/>
                  <a:pt x="1687" y="10542"/>
                </a:cubicBezTo>
              </a:path>
              <a:path w="1291" h="870">
                <a:moveTo>
                  <a:pt x="2059" y="9872"/>
                </a:moveTo>
                <a:cubicBezTo>
                  <a:pt x="2059" y="9955"/>
                  <a:pt x="2047" y="10020"/>
                  <a:pt x="2034" y="10096"/>
                </a:cubicBezTo>
                <a:cubicBezTo>
                  <a:pt x="2008" y="10251"/>
                  <a:pt x="2034" y="10434"/>
                  <a:pt x="2034" y="10592"/>
                </a:cubicBezTo>
              </a:path>
              <a:path w="1291" h="870">
                <a:moveTo>
                  <a:pt x="2332" y="10220"/>
                </a:moveTo>
                <a:cubicBezTo>
                  <a:pt x="2277" y="10274"/>
                  <a:pt x="2264" y="10295"/>
                  <a:pt x="2232" y="10368"/>
                </a:cubicBezTo>
                <a:cubicBezTo>
                  <a:pt x="2211" y="10416"/>
                  <a:pt x="2143" y="10510"/>
                  <a:pt x="2232" y="10542"/>
                </a:cubicBezTo>
                <a:cubicBezTo>
                  <a:pt x="2289" y="10562"/>
                  <a:pt x="2367" y="10503"/>
                  <a:pt x="2406" y="10468"/>
                </a:cubicBezTo>
                <a:cubicBezTo>
                  <a:pt x="2414" y="10460"/>
                  <a:pt x="2423" y="10451"/>
                  <a:pt x="2431" y="10443"/>
                </a:cubicBezTo>
                <a:cubicBezTo>
                  <a:pt x="2464" y="10498"/>
                  <a:pt x="2454" y="10590"/>
                  <a:pt x="2505" y="10641"/>
                </a:cubicBezTo>
                <a:cubicBezTo>
                  <a:pt x="2537" y="10673"/>
                  <a:pt x="2614" y="10696"/>
                  <a:pt x="2654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Ink 17"/>
          <p:cNvSpPr/>
          <p:nvPr/>
        </p:nvSpPr>
        <p:spPr>
          <a:xfrm>
            <a:off x="2081160" y="3473280"/>
            <a:ext cx="1857600" cy="714600"/>
          </a:xfrm>
          <a:custGeom>
            <a:avLst/>
            <a:gdLst/>
            <a:ahLst/>
            <a:rect l="l" t="t" r="r" b="b"/>
            <a:pathLst>
              <a:path w="5161" h="1985">
                <a:moveTo>
                  <a:pt x="5879" y="9649"/>
                </a:moveTo>
                <a:cubicBezTo>
                  <a:pt x="5959" y="9673"/>
                  <a:pt x="6066" y="9692"/>
                  <a:pt x="6152" y="9699"/>
                </a:cubicBezTo>
                <a:cubicBezTo>
                  <a:pt x="6249" y="9707"/>
                  <a:pt x="6352" y="9699"/>
                  <a:pt x="6449" y="9699"/>
                </a:cubicBezTo>
              </a:path>
              <a:path w="5161" h="1985">
                <a:moveTo>
                  <a:pt x="6052" y="9699"/>
                </a:moveTo>
                <a:cubicBezTo>
                  <a:pt x="6012" y="9844"/>
                  <a:pt x="5949" y="9997"/>
                  <a:pt x="5928" y="10145"/>
                </a:cubicBezTo>
                <a:cubicBezTo>
                  <a:pt x="5922" y="10184"/>
                  <a:pt x="5928" y="10229"/>
                  <a:pt x="5928" y="10269"/>
                </a:cubicBezTo>
              </a:path>
              <a:path w="5161" h="1985">
                <a:moveTo>
                  <a:pt x="6375" y="9723"/>
                </a:moveTo>
                <a:cubicBezTo>
                  <a:pt x="6367" y="9818"/>
                  <a:pt x="6315" y="9866"/>
                  <a:pt x="6300" y="9947"/>
                </a:cubicBezTo>
                <a:cubicBezTo>
                  <a:pt x="6281" y="10048"/>
                  <a:pt x="6295" y="10117"/>
                  <a:pt x="6300" y="10220"/>
                </a:cubicBezTo>
                <a:cubicBezTo>
                  <a:pt x="6300" y="10278"/>
                  <a:pt x="6300" y="10303"/>
                  <a:pt x="6300" y="10344"/>
                </a:cubicBezTo>
              </a:path>
              <a:path w="5161" h="1985">
                <a:moveTo>
                  <a:pt x="5779" y="10418"/>
                </a:moveTo>
                <a:cubicBezTo>
                  <a:pt x="5892" y="10418"/>
                  <a:pt x="5994" y="10433"/>
                  <a:pt x="6102" y="10443"/>
                </a:cubicBezTo>
                <a:cubicBezTo>
                  <a:pt x="6211" y="10453"/>
                  <a:pt x="6316" y="10459"/>
                  <a:pt x="6424" y="10468"/>
                </a:cubicBezTo>
              </a:path>
              <a:path w="5161" h="1985">
                <a:moveTo>
                  <a:pt x="6028" y="10641"/>
                </a:moveTo>
                <a:cubicBezTo>
                  <a:pt x="6127" y="10668"/>
                  <a:pt x="6196" y="10671"/>
                  <a:pt x="6276" y="10740"/>
                </a:cubicBezTo>
                <a:cubicBezTo>
                  <a:pt x="6334" y="10790"/>
                  <a:pt x="6392" y="10831"/>
                  <a:pt x="6375" y="10914"/>
                </a:cubicBezTo>
                <a:cubicBezTo>
                  <a:pt x="6362" y="10980"/>
                  <a:pt x="6232" y="11062"/>
                  <a:pt x="6176" y="11088"/>
                </a:cubicBezTo>
                <a:cubicBezTo>
                  <a:pt x="6108" y="11119"/>
                  <a:pt x="6065" y="11149"/>
                  <a:pt x="6003" y="11187"/>
                </a:cubicBezTo>
                <a:cubicBezTo>
                  <a:pt x="5956" y="11216"/>
                  <a:pt x="5922" y="11211"/>
                  <a:pt x="5879" y="11237"/>
                </a:cubicBezTo>
                <a:cubicBezTo>
                  <a:pt x="5893" y="11335"/>
                  <a:pt x="5932" y="11335"/>
                  <a:pt x="6028" y="11385"/>
                </a:cubicBezTo>
                <a:cubicBezTo>
                  <a:pt x="6097" y="11421"/>
                  <a:pt x="6196" y="11471"/>
                  <a:pt x="6276" y="11460"/>
                </a:cubicBezTo>
                <a:cubicBezTo>
                  <a:pt x="6309" y="11452"/>
                  <a:pt x="6342" y="11443"/>
                  <a:pt x="6375" y="11435"/>
                </a:cubicBezTo>
              </a:path>
              <a:path w="5161" h="1985">
                <a:moveTo>
                  <a:pt x="6772" y="10691"/>
                </a:moveTo>
                <a:cubicBezTo>
                  <a:pt x="6891" y="10691"/>
                  <a:pt x="7001" y="10727"/>
                  <a:pt x="7119" y="10716"/>
                </a:cubicBezTo>
                <a:cubicBezTo>
                  <a:pt x="7160" y="10708"/>
                  <a:pt x="7202" y="10699"/>
                  <a:pt x="7243" y="10691"/>
                </a:cubicBezTo>
              </a:path>
              <a:path w="5161" h="1985">
                <a:moveTo>
                  <a:pt x="7838" y="10046"/>
                </a:moveTo>
                <a:cubicBezTo>
                  <a:pt x="7812" y="10189"/>
                  <a:pt x="7782" y="10351"/>
                  <a:pt x="7764" y="10492"/>
                </a:cubicBezTo>
                <a:cubicBezTo>
                  <a:pt x="7749" y="10610"/>
                  <a:pt x="7776" y="10730"/>
                  <a:pt x="7789" y="10840"/>
                </a:cubicBezTo>
                <a:cubicBezTo>
                  <a:pt x="7802" y="10945"/>
                  <a:pt x="7777" y="11037"/>
                  <a:pt x="7813" y="11137"/>
                </a:cubicBezTo>
              </a:path>
              <a:path w="5161" h="1985">
                <a:moveTo>
                  <a:pt x="8310" y="10716"/>
                </a:moveTo>
                <a:cubicBezTo>
                  <a:pt x="8404" y="10722"/>
                  <a:pt x="8488" y="10740"/>
                  <a:pt x="8582" y="10740"/>
                </a:cubicBezTo>
              </a:path>
              <a:path w="5161" h="1985">
                <a:moveTo>
                  <a:pt x="8359" y="10889"/>
                </a:moveTo>
                <a:cubicBezTo>
                  <a:pt x="8445" y="10925"/>
                  <a:pt x="8585" y="10997"/>
                  <a:pt x="8682" y="10988"/>
                </a:cubicBezTo>
                <a:cubicBezTo>
                  <a:pt x="8698" y="10980"/>
                  <a:pt x="8715" y="10972"/>
                  <a:pt x="8731" y="10964"/>
                </a:cubicBezTo>
              </a:path>
              <a:path w="5161" h="1985">
                <a:moveTo>
                  <a:pt x="9227" y="10914"/>
                </a:moveTo>
                <a:cubicBezTo>
                  <a:pt x="9244" y="10906"/>
                  <a:pt x="9260" y="10897"/>
                  <a:pt x="9277" y="10889"/>
                </a:cubicBezTo>
              </a:path>
              <a:path w="5161" h="1985">
                <a:moveTo>
                  <a:pt x="9699" y="10244"/>
                </a:moveTo>
                <a:cubicBezTo>
                  <a:pt x="9840" y="10216"/>
                  <a:pt x="10007" y="10226"/>
                  <a:pt x="10145" y="10195"/>
                </a:cubicBezTo>
                <a:cubicBezTo>
                  <a:pt x="10162" y="10187"/>
                  <a:pt x="10178" y="10178"/>
                  <a:pt x="10195" y="10170"/>
                </a:cubicBezTo>
              </a:path>
              <a:path w="5161" h="1985">
                <a:moveTo>
                  <a:pt x="9748" y="10195"/>
                </a:moveTo>
                <a:cubicBezTo>
                  <a:pt x="9705" y="10275"/>
                  <a:pt x="9654" y="10355"/>
                  <a:pt x="9649" y="10443"/>
                </a:cubicBezTo>
                <a:cubicBezTo>
                  <a:pt x="9645" y="10503"/>
                  <a:pt x="9681" y="10554"/>
                  <a:pt x="9748" y="10542"/>
                </a:cubicBezTo>
                <a:cubicBezTo>
                  <a:pt x="9854" y="10523"/>
                  <a:pt x="9916" y="10511"/>
                  <a:pt x="10021" y="10567"/>
                </a:cubicBezTo>
                <a:cubicBezTo>
                  <a:pt x="10062" y="10589"/>
                  <a:pt x="10099" y="10676"/>
                  <a:pt x="10120" y="10716"/>
                </a:cubicBezTo>
                <a:cubicBezTo>
                  <a:pt x="10174" y="10818"/>
                  <a:pt x="10133" y="10900"/>
                  <a:pt x="10071" y="10988"/>
                </a:cubicBezTo>
                <a:cubicBezTo>
                  <a:pt x="10044" y="11026"/>
                  <a:pt x="9940" y="11025"/>
                  <a:pt x="9897" y="11013"/>
                </a:cubicBezTo>
                <a:cubicBezTo>
                  <a:pt x="9849" y="11000"/>
                  <a:pt x="9762" y="10960"/>
                  <a:pt x="9748" y="10939"/>
                </a:cubicBezTo>
              </a:path>
              <a:path w="5161" h="1985">
                <a:moveTo>
                  <a:pt x="10443" y="10244"/>
                </a:moveTo>
                <a:cubicBezTo>
                  <a:pt x="10551" y="10197"/>
                  <a:pt x="10583" y="10170"/>
                  <a:pt x="10691" y="10170"/>
                </a:cubicBezTo>
                <a:cubicBezTo>
                  <a:pt x="10774" y="10170"/>
                  <a:pt x="10856" y="10170"/>
                  <a:pt x="10939" y="10170"/>
                </a:cubicBezTo>
                <a:cubicBezTo>
                  <a:pt x="10930" y="10246"/>
                  <a:pt x="10897" y="10316"/>
                  <a:pt x="10889" y="10393"/>
                </a:cubicBezTo>
                <a:cubicBezTo>
                  <a:pt x="10874" y="10551"/>
                  <a:pt x="10864" y="10703"/>
                  <a:pt x="10864" y="10864"/>
                </a:cubicBezTo>
                <a:cubicBezTo>
                  <a:pt x="10864" y="11084"/>
                  <a:pt x="10877" y="11289"/>
                  <a:pt x="10864" y="11509"/>
                </a:cubicBezTo>
                <a:cubicBezTo>
                  <a:pt x="10864" y="11550"/>
                  <a:pt x="10864" y="11592"/>
                  <a:pt x="10864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Ink 18"/>
          <p:cNvSpPr/>
          <p:nvPr/>
        </p:nvSpPr>
        <p:spPr>
          <a:xfrm>
            <a:off x="5054760" y="3741840"/>
            <a:ext cx="606240" cy="374400"/>
          </a:xfrm>
          <a:custGeom>
            <a:avLst/>
            <a:gdLst/>
            <a:ahLst/>
            <a:rect l="l" t="t" r="r" b="b"/>
            <a:pathLst>
              <a:path w="1688" h="1043">
                <a:moveTo>
                  <a:pt x="14039" y="10492"/>
                </a:moveTo>
                <a:cubicBezTo>
                  <a:pt x="14094" y="10458"/>
                  <a:pt x="14179" y="10400"/>
                  <a:pt x="14238" y="10393"/>
                </a:cubicBezTo>
                <a:cubicBezTo>
                  <a:pt x="14401" y="10373"/>
                  <a:pt x="14574" y="10408"/>
                  <a:pt x="14734" y="10418"/>
                </a:cubicBezTo>
                <a:cubicBezTo>
                  <a:pt x="14844" y="10425"/>
                  <a:pt x="14946" y="10443"/>
                  <a:pt x="15056" y="10443"/>
                </a:cubicBezTo>
                <a:cubicBezTo>
                  <a:pt x="15073" y="10443"/>
                  <a:pt x="15089" y="10443"/>
                  <a:pt x="15106" y="10443"/>
                </a:cubicBezTo>
              </a:path>
              <a:path w="1688" h="1043">
                <a:moveTo>
                  <a:pt x="14486" y="10468"/>
                </a:moveTo>
                <a:cubicBezTo>
                  <a:pt x="14429" y="10702"/>
                  <a:pt x="14394" y="10897"/>
                  <a:pt x="14387" y="11137"/>
                </a:cubicBezTo>
                <a:cubicBezTo>
                  <a:pt x="14385" y="11223"/>
                  <a:pt x="14412" y="11296"/>
                  <a:pt x="14412" y="11385"/>
                </a:cubicBezTo>
                <a:cubicBezTo>
                  <a:pt x="14412" y="11444"/>
                  <a:pt x="14415" y="11452"/>
                  <a:pt x="14436" y="11361"/>
                </a:cubicBezTo>
              </a:path>
              <a:path w="1688" h="1043">
                <a:moveTo>
                  <a:pt x="14808" y="10443"/>
                </a:moveTo>
                <a:cubicBezTo>
                  <a:pt x="14859" y="10527"/>
                  <a:pt x="14813" y="10599"/>
                  <a:pt x="14808" y="10691"/>
                </a:cubicBezTo>
                <a:cubicBezTo>
                  <a:pt x="14800" y="10833"/>
                  <a:pt x="14784" y="10971"/>
                  <a:pt x="14784" y="11112"/>
                </a:cubicBezTo>
                <a:cubicBezTo>
                  <a:pt x="14784" y="11193"/>
                  <a:pt x="14808" y="11254"/>
                  <a:pt x="14808" y="11336"/>
                </a:cubicBezTo>
              </a:path>
              <a:path w="1688" h="1043">
                <a:moveTo>
                  <a:pt x="15180" y="11162"/>
                </a:moveTo>
                <a:cubicBezTo>
                  <a:pt x="15366" y="11177"/>
                  <a:pt x="15544" y="11200"/>
                  <a:pt x="15726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Ink 19"/>
          <p:cNvSpPr/>
          <p:nvPr/>
        </p:nvSpPr>
        <p:spPr>
          <a:xfrm>
            <a:off x="5884920" y="3795840"/>
            <a:ext cx="1214280" cy="677880"/>
          </a:xfrm>
          <a:custGeom>
            <a:avLst/>
            <a:gdLst/>
            <a:ahLst/>
            <a:rect l="l" t="t" r="r" b="b"/>
            <a:pathLst>
              <a:path w="3375" h="1886">
                <a:moveTo>
                  <a:pt x="16495" y="10542"/>
                </a:moveTo>
                <a:cubicBezTo>
                  <a:pt x="16458" y="10775"/>
                  <a:pt x="16423" y="11007"/>
                  <a:pt x="16371" y="11237"/>
                </a:cubicBezTo>
                <a:cubicBezTo>
                  <a:pt x="16341" y="11370"/>
                  <a:pt x="16346" y="11497"/>
                  <a:pt x="16346" y="11633"/>
                </a:cubicBezTo>
                <a:cubicBezTo>
                  <a:pt x="16346" y="11708"/>
                  <a:pt x="16335" y="11772"/>
                  <a:pt x="16371" y="11832"/>
                </a:cubicBezTo>
              </a:path>
              <a:path w="3375" h="1886">
                <a:moveTo>
                  <a:pt x="16867" y="11286"/>
                </a:moveTo>
                <a:cubicBezTo>
                  <a:pt x="16999" y="11286"/>
                  <a:pt x="17132" y="11286"/>
                  <a:pt x="17264" y="11286"/>
                </a:cubicBezTo>
              </a:path>
              <a:path w="3375" h="1886">
                <a:moveTo>
                  <a:pt x="16892" y="11460"/>
                </a:moveTo>
                <a:cubicBezTo>
                  <a:pt x="16998" y="11509"/>
                  <a:pt x="17092" y="11557"/>
                  <a:pt x="17214" y="11534"/>
                </a:cubicBezTo>
                <a:cubicBezTo>
                  <a:pt x="17239" y="11526"/>
                  <a:pt x="17264" y="11517"/>
                  <a:pt x="17289" y="11509"/>
                </a:cubicBezTo>
              </a:path>
              <a:path w="3375" h="1886">
                <a:moveTo>
                  <a:pt x="17859" y="10740"/>
                </a:moveTo>
                <a:cubicBezTo>
                  <a:pt x="18012" y="10725"/>
                  <a:pt x="18161" y="10721"/>
                  <a:pt x="18256" y="10889"/>
                </a:cubicBezTo>
                <a:cubicBezTo>
                  <a:pt x="18340" y="11038"/>
                  <a:pt x="18261" y="11272"/>
                  <a:pt x="18157" y="11385"/>
                </a:cubicBezTo>
                <a:cubicBezTo>
                  <a:pt x="18088" y="11459"/>
                  <a:pt x="17932" y="11593"/>
                  <a:pt x="17835" y="11658"/>
                </a:cubicBezTo>
                <a:cubicBezTo>
                  <a:pt x="17787" y="11682"/>
                  <a:pt x="17772" y="11690"/>
                  <a:pt x="17735" y="11683"/>
                </a:cubicBezTo>
                <a:cubicBezTo>
                  <a:pt x="17800" y="11640"/>
                  <a:pt x="17881" y="11625"/>
                  <a:pt x="17959" y="11658"/>
                </a:cubicBezTo>
                <a:cubicBezTo>
                  <a:pt x="18029" y="11688"/>
                  <a:pt x="18106" y="11832"/>
                  <a:pt x="18182" y="11832"/>
                </a:cubicBezTo>
                <a:cubicBezTo>
                  <a:pt x="18190" y="11824"/>
                  <a:pt x="18199" y="11815"/>
                  <a:pt x="18207" y="11807"/>
                </a:cubicBezTo>
              </a:path>
              <a:path w="3375" h="1886">
                <a:moveTo>
                  <a:pt x="18504" y="11609"/>
                </a:moveTo>
                <a:cubicBezTo>
                  <a:pt x="18504" y="11617"/>
                  <a:pt x="18504" y="11625"/>
                  <a:pt x="18504" y="11633"/>
                </a:cubicBezTo>
              </a:path>
              <a:path w="3375" h="1886">
                <a:moveTo>
                  <a:pt x="19025" y="10864"/>
                </a:moveTo>
                <a:cubicBezTo>
                  <a:pt x="18996" y="11038"/>
                  <a:pt x="18920" y="11188"/>
                  <a:pt x="18901" y="11361"/>
                </a:cubicBezTo>
                <a:cubicBezTo>
                  <a:pt x="18888" y="11475"/>
                  <a:pt x="18850" y="11619"/>
                  <a:pt x="18876" y="11733"/>
                </a:cubicBezTo>
                <a:cubicBezTo>
                  <a:pt x="18897" y="11824"/>
                  <a:pt x="18916" y="11801"/>
                  <a:pt x="18951" y="11757"/>
                </a:cubicBezTo>
              </a:path>
              <a:path w="3375" h="1886">
                <a:moveTo>
                  <a:pt x="19323" y="10988"/>
                </a:moveTo>
                <a:cubicBezTo>
                  <a:pt x="19261" y="11050"/>
                  <a:pt x="19284" y="11059"/>
                  <a:pt x="19323" y="11137"/>
                </a:cubicBezTo>
                <a:cubicBezTo>
                  <a:pt x="19362" y="11214"/>
                  <a:pt x="19423" y="11249"/>
                  <a:pt x="19496" y="11286"/>
                </a:cubicBezTo>
                <a:cubicBezTo>
                  <a:pt x="19575" y="11326"/>
                  <a:pt x="19616" y="11327"/>
                  <a:pt x="19695" y="11311"/>
                </a:cubicBezTo>
              </a:path>
              <a:path w="3375" h="1886">
                <a:moveTo>
                  <a:pt x="19695" y="10815"/>
                </a:moveTo>
                <a:cubicBezTo>
                  <a:pt x="19670" y="11355"/>
                  <a:pt x="19724" y="11892"/>
                  <a:pt x="19695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Ink 20"/>
          <p:cNvSpPr/>
          <p:nvPr/>
        </p:nvSpPr>
        <p:spPr>
          <a:xfrm>
            <a:off x="347760" y="4840200"/>
            <a:ext cx="215640" cy="411120"/>
          </a:xfrm>
          <a:custGeom>
            <a:avLst/>
            <a:gdLst/>
            <a:ahLst/>
            <a:rect l="l" t="t" r="r" b="b"/>
            <a:pathLst>
              <a:path w="597" h="1142">
                <a:moveTo>
                  <a:pt x="1166" y="13519"/>
                </a:moveTo>
                <a:cubicBezTo>
                  <a:pt x="1241" y="13481"/>
                  <a:pt x="1304" y="13448"/>
                  <a:pt x="1389" y="13444"/>
                </a:cubicBezTo>
                <a:cubicBezTo>
                  <a:pt x="1448" y="13441"/>
                  <a:pt x="1520" y="13482"/>
                  <a:pt x="1538" y="13543"/>
                </a:cubicBezTo>
                <a:cubicBezTo>
                  <a:pt x="1568" y="13644"/>
                  <a:pt x="1532" y="13689"/>
                  <a:pt x="1513" y="13791"/>
                </a:cubicBezTo>
                <a:cubicBezTo>
                  <a:pt x="1497" y="13880"/>
                  <a:pt x="1478" y="13944"/>
                  <a:pt x="1414" y="14015"/>
                </a:cubicBezTo>
                <a:cubicBezTo>
                  <a:pt x="1351" y="14085"/>
                  <a:pt x="1289" y="14161"/>
                  <a:pt x="1215" y="14213"/>
                </a:cubicBezTo>
                <a:cubicBezTo>
                  <a:pt x="1142" y="14264"/>
                  <a:pt x="1106" y="14341"/>
                  <a:pt x="1042" y="14387"/>
                </a:cubicBezTo>
                <a:cubicBezTo>
                  <a:pt x="984" y="14428"/>
                  <a:pt x="933" y="14437"/>
                  <a:pt x="992" y="14511"/>
                </a:cubicBezTo>
                <a:cubicBezTo>
                  <a:pt x="1062" y="14599"/>
                  <a:pt x="1115" y="14568"/>
                  <a:pt x="1215" y="14560"/>
                </a:cubicBezTo>
                <a:cubicBezTo>
                  <a:pt x="1315" y="14552"/>
                  <a:pt x="1376" y="14510"/>
                  <a:pt x="1463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Ink 21"/>
          <p:cNvSpPr/>
          <p:nvPr/>
        </p:nvSpPr>
        <p:spPr>
          <a:xfrm>
            <a:off x="714240" y="4911840"/>
            <a:ext cx="393840" cy="419040"/>
          </a:xfrm>
          <a:custGeom>
            <a:avLst/>
            <a:gdLst/>
            <a:ahLst/>
            <a:rect l="l" t="t" r="r" b="b"/>
            <a:pathLst>
              <a:path w="1093" h="1166">
                <a:moveTo>
                  <a:pt x="2009" y="13643"/>
                </a:moveTo>
                <a:cubicBezTo>
                  <a:pt x="2009" y="13780"/>
                  <a:pt x="1997" y="13905"/>
                  <a:pt x="1984" y="14039"/>
                </a:cubicBezTo>
                <a:cubicBezTo>
                  <a:pt x="1966" y="14220"/>
                  <a:pt x="1982" y="14413"/>
                  <a:pt x="2009" y="14585"/>
                </a:cubicBezTo>
                <a:cubicBezTo>
                  <a:pt x="2009" y="14602"/>
                  <a:pt x="2009" y="14618"/>
                  <a:pt x="2009" y="14635"/>
                </a:cubicBezTo>
              </a:path>
              <a:path w="1093" h="1166">
                <a:moveTo>
                  <a:pt x="2629" y="13667"/>
                </a:moveTo>
                <a:cubicBezTo>
                  <a:pt x="2612" y="13778"/>
                  <a:pt x="2606" y="13907"/>
                  <a:pt x="2580" y="14015"/>
                </a:cubicBezTo>
                <a:cubicBezTo>
                  <a:pt x="2538" y="14189"/>
                  <a:pt x="2530" y="14358"/>
                  <a:pt x="2530" y="14536"/>
                </a:cubicBezTo>
                <a:cubicBezTo>
                  <a:pt x="2530" y="14587"/>
                  <a:pt x="2531" y="14606"/>
                  <a:pt x="2555" y="14635"/>
                </a:cubicBezTo>
                <a:cubicBezTo>
                  <a:pt x="2555" y="14577"/>
                  <a:pt x="2557" y="14509"/>
                  <a:pt x="2580" y="14461"/>
                </a:cubicBezTo>
                <a:cubicBezTo>
                  <a:pt x="2598" y="14423"/>
                  <a:pt x="2625" y="14334"/>
                  <a:pt x="2654" y="14312"/>
                </a:cubicBezTo>
                <a:cubicBezTo>
                  <a:pt x="2735" y="14251"/>
                  <a:pt x="2808" y="14257"/>
                  <a:pt x="2902" y="14288"/>
                </a:cubicBezTo>
                <a:cubicBezTo>
                  <a:pt x="2997" y="14319"/>
                  <a:pt x="3021" y="14401"/>
                  <a:pt x="3051" y="14486"/>
                </a:cubicBezTo>
                <a:cubicBezTo>
                  <a:pt x="3084" y="14579"/>
                  <a:pt x="3079" y="14660"/>
                  <a:pt x="3001" y="14734"/>
                </a:cubicBezTo>
                <a:cubicBezTo>
                  <a:pt x="2922" y="14809"/>
                  <a:pt x="2735" y="14829"/>
                  <a:pt x="2629" y="14808"/>
                </a:cubicBezTo>
                <a:cubicBezTo>
                  <a:pt x="2561" y="14795"/>
                  <a:pt x="2487" y="14721"/>
                  <a:pt x="2431" y="146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Ink 22"/>
          <p:cNvSpPr/>
          <p:nvPr/>
        </p:nvSpPr>
        <p:spPr>
          <a:xfrm>
            <a:off x="1901880" y="4946760"/>
            <a:ext cx="1376280" cy="750600"/>
          </a:xfrm>
          <a:custGeom>
            <a:avLst/>
            <a:gdLst/>
            <a:ahLst/>
            <a:rect l="l" t="t" r="r" b="b"/>
            <a:pathLst>
              <a:path w="3821" h="2084">
                <a:moveTo>
                  <a:pt x="5283" y="13816"/>
                </a:moveTo>
                <a:cubicBezTo>
                  <a:pt x="5375" y="13826"/>
                  <a:pt x="5467" y="13839"/>
                  <a:pt x="5556" y="13866"/>
                </a:cubicBezTo>
                <a:cubicBezTo>
                  <a:pt x="5654" y="13896"/>
                  <a:pt x="5731" y="13929"/>
                  <a:pt x="5829" y="13940"/>
                </a:cubicBezTo>
              </a:path>
              <a:path w="3821" h="2084">
                <a:moveTo>
                  <a:pt x="5705" y="13742"/>
                </a:moveTo>
                <a:cubicBezTo>
                  <a:pt x="5664" y="13823"/>
                  <a:pt x="5642" y="13907"/>
                  <a:pt x="5606" y="13990"/>
                </a:cubicBezTo>
                <a:cubicBezTo>
                  <a:pt x="5560" y="14095"/>
                  <a:pt x="5509" y="14199"/>
                  <a:pt x="5482" y="14312"/>
                </a:cubicBezTo>
                <a:cubicBezTo>
                  <a:pt x="5482" y="14320"/>
                  <a:pt x="5482" y="14329"/>
                  <a:pt x="5482" y="14337"/>
                </a:cubicBezTo>
              </a:path>
              <a:path w="3821" h="2084">
                <a:moveTo>
                  <a:pt x="5779" y="13841"/>
                </a:moveTo>
                <a:cubicBezTo>
                  <a:pt x="5752" y="13925"/>
                  <a:pt x="5750" y="14005"/>
                  <a:pt x="5730" y="14089"/>
                </a:cubicBezTo>
                <a:cubicBezTo>
                  <a:pt x="5706" y="14192"/>
                  <a:pt x="5705" y="14280"/>
                  <a:pt x="5705" y="14387"/>
                </a:cubicBezTo>
              </a:path>
              <a:path w="3821" h="2084">
                <a:moveTo>
                  <a:pt x="5333" y="14511"/>
                </a:moveTo>
                <a:cubicBezTo>
                  <a:pt x="5498" y="14511"/>
                  <a:pt x="5664" y="14511"/>
                  <a:pt x="5829" y="14511"/>
                </a:cubicBezTo>
              </a:path>
              <a:path w="3821" h="2084">
                <a:moveTo>
                  <a:pt x="5383" y="14784"/>
                </a:moveTo>
                <a:cubicBezTo>
                  <a:pt x="5472" y="14822"/>
                  <a:pt x="5577" y="14813"/>
                  <a:pt x="5655" y="14858"/>
                </a:cubicBezTo>
                <a:cubicBezTo>
                  <a:pt x="5688" y="14877"/>
                  <a:pt x="5753" y="14939"/>
                  <a:pt x="5730" y="14982"/>
                </a:cubicBezTo>
                <a:cubicBezTo>
                  <a:pt x="5699" y="15040"/>
                  <a:pt x="5606" y="15123"/>
                  <a:pt x="5556" y="15156"/>
                </a:cubicBezTo>
                <a:cubicBezTo>
                  <a:pt x="5472" y="15211"/>
                  <a:pt x="5463" y="15222"/>
                  <a:pt x="5407" y="15304"/>
                </a:cubicBezTo>
                <a:cubicBezTo>
                  <a:pt x="5348" y="15390"/>
                  <a:pt x="5363" y="15430"/>
                  <a:pt x="5407" y="15528"/>
                </a:cubicBezTo>
                <a:cubicBezTo>
                  <a:pt x="5453" y="15630"/>
                  <a:pt x="5565" y="15708"/>
                  <a:pt x="5680" y="15701"/>
                </a:cubicBezTo>
                <a:cubicBezTo>
                  <a:pt x="5713" y="15693"/>
                  <a:pt x="5746" y="15685"/>
                  <a:pt x="5779" y="15677"/>
                </a:cubicBezTo>
              </a:path>
              <a:path w="3821" h="2084">
                <a:moveTo>
                  <a:pt x="6052" y="14808"/>
                </a:moveTo>
                <a:cubicBezTo>
                  <a:pt x="6182" y="14758"/>
                  <a:pt x="6264" y="14778"/>
                  <a:pt x="6400" y="14784"/>
                </a:cubicBezTo>
                <a:cubicBezTo>
                  <a:pt x="6416" y="14784"/>
                  <a:pt x="6433" y="14784"/>
                  <a:pt x="6449" y="14784"/>
                </a:cubicBezTo>
              </a:path>
              <a:path w="3821" h="2084">
                <a:moveTo>
                  <a:pt x="6796" y="14263"/>
                </a:moveTo>
                <a:cubicBezTo>
                  <a:pt x="6897" y="14209"/>
                  <a:pt x="6974" y="14159"/>
                  <a:pt x="7094" y="14188"/>
                </a:cubicBezTo>
                <a:cubicBezTo>
                  <a:pt x="7178" y="14208"/>
                  <a:pt x="7195" y="14269"/>
                  <a:pt x="7169" y="14337"/>
                </a:cubicBezTo>
                <a:cubicBezTo>
                  <a:pt x="7141" y="14408"/>
                  <a:pt x="7073" y="14458"/>
                  <a:pt x="7020" y="14511"/>
                </a:cubicBezTo>
                <a:cubicBezTo>
                  <a:pt x="6961" y="14570"/>
                  <a:pt x="6887" y="14616"/>
                  <a:pt x="6846" y="14684"/>
                </a:cubicBezTo>
                <a:cubicBezTo>
                  <a:pt x="6793" y="14773"/>
                  <a:pt x="6796" y="14828"/>
                  <a:pt x="6796" y="14932"/>
                </a:cubicBezTo>
                <a:cubicBezTo>
                  <a:pt x="6796" y="15013"/>
                  <a:pt x="6855" y="15046"/>
                  <a:pt x="6921" y="15081"/>
                </a:cubicBezTo>
                <a:cubicBezTo>
                  <a:pt x="6992" y="15119"/>
                  <a:pt x="7060" y="15151"/>
                  <a:pt x="7144" y="15131"/>
                </a:cubicBezTo>
                <a:cubicBezTo>
                  <a:pt x="7160" y="15123"/>
                  <a:pt x="7177" y="15114"/>
                  <a:pt x="7193" y="15106"/>
                </a:cubicBezTo>
              </a:path>
              <a:path w="3821" h="2084">
                <a:moveTo>
                  <a:pt x="7689" y="14734"/>
                </a:moveTo>
                <a:cubicBezTo>
                  <a:pt x="7626" y="14870"/>
                  <a:pt x="7582" y="14984"/>
                  <a:pt x="7565" y="15131"/>
                </a:cubicBezTo>
                <a:cubicBezTo>
                  <a:pt x="7565" y="15244"/>
                  <a:pt x="7598" y="14984"/>
                  <a:pt x="7615" y="14932"/>
                </a:cubicBezTo>
                <a:cubicBezTo>
                  <a:pt x="7645" y="14838"/>
                  <a:pt x="7696" y="14750"/>
                  <a:pt x="7739" y="14660"/>
                </a:cubicBezTo>
                <a:cubicBezTo>
                  <a:pt x="7768" y="14600"/>
                  <a:pt x="7780" y="14547"/>
                  <a:pt x="7789" y="14486"/>
                </a:cubicBezTo>
                <a:cubicBezTo>
                  <a:pt x="7760" y="14572"/>
                  <a:pt x="7743" y="14690"/>
                  <a:pt x="7764" y="14784"/>
                </a:cubicBezTo>
                <a:cubicBezTo>
                  <a:pt x="7780" y="14856"/>
                  <a:pt x="7840" y="14930"/>
                  <a:pt x="7888" y="14982"/>
                </a:cubicBezTo>
                <a:cubicBezTo>
                  <a:pt x="7922" y="15019"/>
                  <a:pt x="7981" y="15063"/>
                  <a:pt x="8037" y="15032"/>
                </a:cubicBezTo>
                <a:cubicBezTo>
                  <a:pt x="8099" y="14997"/>
                  <a:pt x="8131" y="14917"/>
                  <a:pt x="8161" y="14858"/>
                </a:cubicBezTo>
                <a:cubicBezTo>
                  <a:pt x="8194" y="14792"/>
                  <a:pt x="8265" y="14697"/>
                  <a:pt x="8285" y="14635"/>
                </a:cubicBezTo>
                <a:cubicBezTo>
                  <a:pt x="8302" y="14581"/>
                  <a:pt x="8281" y="14528"/>
                  <a:pt x="8260" y="14486"/>
                </a:cubicBezTo>
              </a:path>
              <a:path w="3821" h="2084">
                <a:moveTo>
                  <a:pt x="8210" y="14709"/>
                </a:moveTo>
                <a:cubicBezTo>
                  <a:pt x="8267" y="14783"/>
                  <a:pt x="8339" y="14902"/>
                  <a:pt x="8434" y="14932"/>
                </a:cubicBezTo>
                <a:cubicBezTo>
                  <a:pt x="8490" y="14950"/>
                  <a:pt x="8566" y="14889"/>
                  <a:pt x="8607" y="14858"/>
                </a:cubicBezTo>
                <a:cubicBezTo>
                  <a:pt x="8639" y="14834"/>
                  <a:pt x="8679" y="14798"/>
                  <a:pt x="8682" y="14759"/>
                </a:cubicBezTo>
                <a:cubicBezTo>
                  <a:pt x="8686" y="14708"/>
                  <a:pt x="8693" y="14633"/>
                  <a:pt x="8632" y="14610"/>
                </a:cubicBezTo>
                <a:cubicBezTo>
                  <a:pt x="8545" y="14577"/>
                  <a:pt x="8510" y="14558"/>
                  <a:pt x="8434" y="14585"/>
                </a:cubicBezTo>
                <a:cubicBezTo>
                  <a:pt x="8326" y="14624"/>
                  <a:pt x="8334" y="14709"/>
                  <a:pt x="8334" y="14808"/>
                </a:cubicBezTo>
                <a:cubicBezTo>
                  <a:pt x="8334" y="14987"/>
                  <a:pt x="8338" y="14979"/>
                  <a:pt x="8483" y="15106"/>
                </a:cubicBezTo>
              </a:path>
              <a:path w="3821" h="2084">
                <a:moveTo>
                  <a:pt x="8930" y="14784"/>
                </a:moveTo>
                <a:cubicBezTo>
                  <a:pt x="8850" y="14768"/>
                  <a:pt x="8760" y="14722"/>
                  <a:pt x="8706" y="14808"/>
                </a:cubicBezTo>
                <a:cubicBezTo>
                  <a:pt x="8627" y="14933"/>
                  <a:pt x="8709" y="15078"/>
                  <a:pt x="8855" y="15056"/>
                </a:cubicBezTo>
                <a:cubicBezTo>
                  <a:pt x="8927" y="15045"/>
                  <a:pt x="9000" y="15031"/>
                  <a:pt x="9054" y="14982"/>
                </a:cubicBezTo>
                <a:cubicBezTo>
                  <a:pt x="9098" y="14942"/>
                  <a:pt x="9096" y="14912"/>
                  <a:pt x="9103" y="14858"/>
                </a:cubicBezTo>
                <a:cubicBezTo>
                  <a:pt x="9055" y="14931"/>
                  <a:pt x="8999" y="15003"/>
                  <a:pt x="8954" y="15081"/>
                </a:cubicBezTo>
                <a:cubicBezTo>
                  <a:pt x="8880" y="15209"/>
                  <a:pt x="8850" y="15386"/>
                  <a:pt x="8806" y="15528"/>
                </a:cubicBezTo>
                <a:cubicBezTo>
                  <a:pt x="8771" y="15641"/>
                  <a:pt x="8751" y="15750"/>
                  <a:pt x="8632" y="15801"/>
                </a:cubicBezTo>
                <a:cubicBezTo>
                  <a:pt x="8519" y="15850"/>
                  <a:pt x="8483" y="15813"/>
                  <a:pt x="8359" y="15776"/>
                </a:cubicBezTo>
              </a:path>
              <a:path w="3821" h="2084">
                <a:moveTo>
                  <a:pt x="6995" y="14660"/>
                </a:moveTo>
                <a:cubicBezTo>
                  <a:pt x="7053" y="14660"/>
                  <a:pt x="7111" y="14660"/>
                  <a:pt x="7169" y="14660"/>
                </a:cubicBezTo>
              </a:path>
              <a:path w="3821" h="2084">
                <a:moveTo>
                  <a:pt x="6945" y="14957"/>
                </a:moveTo>
                <a:cubicBezTo>
                  <a:pt x="7050" y="15021"/>
                  <a:pt x="7070" y="15039"/>
                  <a:pt x="7144" y="150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Ink 23"/>
          <p:cNvSpPr/>
          <p:nvPr/>
        </p:nvSpPr>
        <p:spPr>
          <a:xfrm>
            <a:off x="2367000" y="5562720"/>
            <a:ext cx="1419120" cy="876240"/>
          </a:xfrm>
          <a:custGeom>
            <a:avLst/>
            <a:gdLst/>
            <a:ahLst/>
            <a:rect l="l" t="t" r="r" b="b"/>
            <a:pathLst>
              <a:path w="3945" h="2432">
                <a:moveTo>
                  <a:pt x="7317" y="17066"/>
                </a:moveTo>
                <a:cubicBezTo>
                  <a:pt x="7115" y="17410"/>
                  <a:pt x="7318" y="17072"/>
                  <a:pt x="7417" y="16867"/>
                </a:cubicBezTo>
                <a:cubicBezTo>
                  <a:pt x="7480" y="16737"/>
                  <a:pt x="7543" y="16602"/>
                  <a:pt x="7590" y="16470"/>
                </a:cubicBezTo>
                <a:cubicBezTo>
                  <a:pt x="7629" y="16360"/>
                  <a:pt x="7690" y="16235"/>
                  <a:pt x="7714" y="16123"/>
                </a:cubicBezTo>
                <a:cubicBezTo>
                  <a:pt x="7729" y="16053"/>
                  <a:pt x="7724" y="16033"/>
                  <a:pt x="7764" y="15974"/>
                </a:cubicBezTo>
                <a:cubicBezTo>
                  <a:pt x="7794" y="16092"/>
                  <a:pt x="7794" y="16201"/>
                  <a:pt x="7813" y="16321"/>
                </a:cubicBezTo>
                <a:cubicBezTo>
                  <a:pt x="7834" y="16454"/>
                  <a:pt x="7879" y="16588"/>
                  <a:pt x="7913" y="16718"/>
                </a:cubicBezTo>
                <a:cubicBezTo>
                  <a:pt x="7945" y="16837"/>
                  <a:pt x="7953" y="16925"/>
                  <a:pt x="8037" y="17016"/>
                </a:cubicBezTo>
                <a:cubicBezTo>
                  <a:pt x="8045" y="17024"/>
                  <a:pt x="8054" y="17033"/>
                  <a:pt x="8062" y="17041"/>
                </a:cubicBezTo>
                <a:cubicBezTo>
                  <a:pt x="8152" y="16963"/>
                  <a:pt x="8139" y="16871"/>
                  <a:pt x="8210" y="16768"/>
                </a:cubicBezTo>
                <a:cubicBezTo>
                  <a:pt x="8304" y="16633"/>
                  <a:pt x="8302" y="16526"/>
                  <a:pt x="8359" y="16371"/>
                </a:cubicBezTo>
                <a:cubicBezTo>
                  <a:pt x="8409" y="16237"/>
                  <a:pt x="8409" y="16144"/>
                  <a:pt x="8409" y="15999"/>
                </a:cubicBezTo>
                <a:cubicBezTo>
                  <a:pt x="8409" y="15924"/>
                  <a:pt x="8372" y="15885"/>
                  <a:pt x="8334" y="15825"/>
                </a:cubicBezTo>
              </a:path>
              <a:path w="3945" h="2432">
                <a:moveTo>
                  <a:pt x="8508" y="16520"/>
                </a:moveTo>
                <a:cubicBezTo>
                  <a:pt x="8468" y="16599"/>
                  <a:pt x="8423" y="16683"/>
                  <a:pt x="8409" y="16768"/>
                </a:cubicBezTo>
                <a:cubicBezTo>
                  <a:pt x="8399" y="16825"/>
                  <a:pt x="8400" y="16899"/>
                  <a:pt x="8434" y="16942"/>
                </a:cubicBezTo>
                <a:cubicBezTo>
                  <a:pt x="8442" y="16950"/>
                  <a:pt x="8450" y="16958"/>
                  <a:pt x="8458" y="16966"/>
                </a:cubicBezTo>
                <a:cubicBezTo>
                  <a:pt x="8568" y="16927"/>
                  <a:pt x="8619" y="16896"/>
                  <a:pt x="8682" y="16793"/>
                </a:cubicBezTo>
                <a:cubicBezTo>
                  <a:pt x="8735" y="16707"/>
                  <a:pt x="8752" y="16620"/>
                  <a:pt x="8756" y="16520"/>
                </a:cubicBezTo>
                <a:cubicBezTo>
                  <a:pt x="8759" y="16429"/>
                  <a:pt x="8742" y="16329"/>
                  <a:pt x="8706" y="16247"/>
                </a:cubicBezTo>
                <a:cubicBezTo>
                  <a:pt x="8682" y="16193"/>
                  <a:pt x="8623" y="16165"/>
                  <a:pt x="8582" y="16197"/>
                </a:cubicBezTo>
                <a:cubicBezTo>
                  <a:pt x="8515" y="16249"/>
                  <a:pt x="8511" y="16345"/>
                  <a:pt x="8508" y="16421"/>
                </a:cubicBezTo>
                <a:cubicBezTo>
                  <a:pt x="8508" y="16512"/>
                  <a:pt x="8511" y="16554"/>
                  <a:pt x="8533" y="16619"/>
                </a:cubicBezTo>
              </a:path>
              <a:path w="3945" h="2432">
                <a:moveTo>
                  <a:pt x="8781" y="16718"/>
                </a:moveTo>
                <a:cubicBezTo>
                  <a:pt x="8893" y="16674"/>
                  <a:pt x="8876" y="16632"/>
                  <a:pt x="8954" y="16545"/>
                </a:cubicBezTo>
                <a:cubicBezTo>
                  <a:pt x="9015" y="16477"/>
                  <a:pt x="9074" y="16417"/>
                  <a:pt x="9128" y="16346"/>
                </a:cubicBezTo>
                <a:cubicBezTo>
                  <a:pt x="9163" y="16301"/>
                  <a:pt x="9174" y="16304"/>
                  <a:pt x="9227" y="16297"/>
                </a:cubicBezTo>
                <a:cubicBezTo>
                  <a:pt x="9189" y="16365"/>
                  <a:pt x="9159" y="16422"/>
                  <a:pt x="9128" y="16495"/>
                </a:cubicBezTo>
                <a:cubicBezTo>
                  <a:pt x="9088" y="16588"/>
                  <a:pt x="9079" y="16639"/>
                  <a:pt x="9079" y="16743"/>
                </a:cubicBezTo>
                <a:cubicBezTo>
                  <a:pt x="9079" y="16838"/>
                  <a:pt x="9080" y="16953"/>
                  <a:pt x="9153" y="17016"/>
                </a:cubicBezTo>
                <a:cubicBezTo>
                  <a:pt x="9253" y="17103"/>
                  <a:pt x="9255" y="17080"/>
                  <a:pt x="9351" y="17041"/>
                </a:cubicBezTo>
                <a:cubicBezTo>
                  <a:pt x="9433" y="17007"/>
                  <a:pt x="9492" y="16942"/>
                  <a:pt x="9550" y="16867"/>
                </a:cubicBezTo>
                <a:cubicBezTo>
                  <a:pt x="9612" y="16787"/>
                  <a:pt x="9645" y="16717"/>
                  <a:pt x="9649" y="16619"/>
                </a:cubicBezTo>
                <a:cubicBezTo>
                  <a:pt x="9651" y="16573"/>
                  <a:pt x="9628" y="16447"/>
                  <a:pt x="9575" y="16421"/>
                </a:cubicBezTo>
                <a:cubicBezTo>
                  <a:pt x="9558" y="16421"/>
                  <a:pt x="9542" y="16421"/>
                  <a:pt x="9525" y="16421"/>
                </a:cubicBezTo>
                <a:cubicBezTo>
                  <a:pt x="9459" y="16518"/>
                  <a:pt x="9443" y="16592"/>
                  <a:pt x="9475" y="16718"/>
                </a:cubicBezTo>
                <a:cubicBezTo>
                  <a:pt x="9503" y="16825"/>
                  <a:pt x="9544" y="16836"/>
                  <a:pt x="9624" y="16892"/>
                </a:cubicBezTo>
                <a:cubicBezTo>
                  <a:pt x="9671" y="16925"/>
                  <a:pt x="9771" y="16922"/>
                  <a:pt x="9823" y="16892"/>
                </a:cubicBezTo>
                <a:cubicBezTo>
                  <a:pt x="9870" y="16864"/>
                  <a:pt x="9994" y="16739"/>
                  <a:pt x="10021" y="16694"/>
                </a:cubicBezTo>
                <a:cubicBezTo>
                  <a:pt x="10072" y="16610"/>
                  <a:pt x="10093" y="16490"/>
                  <a:pt x="10096" y="16396"/>
                </a:cubicBezTo>
                <a:cubicBezTo>
                  <a:pt x="10099" y="16313"/>
                  <a:pt x="10110" y="16195"/>
                  <a:pt x="10021" y="16148"/>
                </a:cubicBezTo>
                <a:cubicBezTo>
                  <a:pt x="9977" y="16125"/>
                  <a:pt x="9894" y="16151"/>
                  <a:pt x="9872" y="16197"/>
                </a:cubicBezTo>
                <a:cubicBezTo>
                  <a:pt x="9819" y="16308"/>
                  <a:pt x="9823" y="16427"/>
                  <a:pt x="9798" y="16545"/>
                </a:cubicBezTo>
                <a:cubicBezTo>
                  <a:pt x="9768" y="16688"/>
                  <a:pt x="9747" y="16823"/>
                  <a:pt x="9723" y="16966"/>
                </a:cubicBezTo>
                <a:cubicBezTo>
                  <a:pt x="9706" y="17074"/>
                  <a:pt x="9698" y="17081"/>
                  <a:pt x="9699" y="17140"/>
                </a:cubicBezTo>
              </a:path>
              <a:path w="3945" h="2432">
                <a:moveTo>
                  <a:pt x="7094" y="15801"/>
                </a:moveTo>
                <a:cubicBezTo>
                  <a:pt x="7060" y="15891"/>
                  <a:pt x="7024" y="15981"/>
                  <a:pt x="6995" y="16073"/>
                </a:cubicBezTo>
                <a:cubicBezTo>
                  <a:pt x="6952" y="16211"/>
                  <a:pt x="6923" y="16360"/>
                  <a:pt x="6871" y="16495"/>
                </a:cubicBezTo>
                <a:cubicBezTo>
                  <a:pt x="6848" y="16556"/>
                  <a:pt x="6817" y="16615"/>
                  <a:pt x="6796" y="16669"/>
                </a:cubicBezTo>
                <a:cubicBezTo>
                  <a:pt x="6852" y="16571"/>
                  <a:pt x="6904" y="16460"/>
                  <a:pt x="6970" y="16371"/>
                </a:cubicBezTo>
                <a:cubicBezTo>
                  <a:pt x="7067" y="16240"/>
                  <a:pt x="7156" y="16113"/>
                  <a:pt x="7243" y="15974"/>
                </a:cubicBezTo>
                <a:cubicBezTo>
                  <a:pt x="7318" y="15853"/>
                  <a:pt x="7407" y="15692"/>
                  <a:pt x="7541" y="15627"/>
                </a:cubicBezTo>
                <a:cubicBezTo>
                  <a:pt x="7635" y="15581"/>
                  <a:pt x="7759" y="15580"/>
                  <a:pt x="7863" y="15577"/>
                </a:cubicBezTo>
                <a:cubicBezTo>
                  <a:pt x="8016" y="15573"/>
                  <a:pt x="8207" y="15582"/>
                  <a:pt x="8359" y="15602"/>
                </a:cubicBezTo>
                <a:cubicBezTo>
                  <a:pt x="8604" y="15634"/>
                  <a:pt x="8833" y="15687"/>
                  <a:pt x="9079" y="15701"/>
                </a:cubicBezTo>
                <a:cubicBezTo>
                  <a:pt x="9245" y="15710"/>
                  <a:pt x="9413" y="15707"/>
                  <a:pt x="9575" y="15677"/>
                </a:cubicBezTo>
                <a:cubicBezTo>
                  <a:pt x="9711" y="15652"/>
                  <a:pt x="9839" y="15619"/>
                  <a:pt x="9971" y="15577"/>
                </a:cubicBezTo>
                <a:cubicBezTo>
                  <a:pt x="10045" y="15553"/>
                  <a:pt x="10211" y="15460"/>
                  <a:pt x="10294" y="15453"/>
                </a:cubicBezTo>
                <a:cubicBezTo>
                  <a:pt x="10380" y="15446"/>
                  <a:pt x="10387" y="15490"/>
                  <a:pt x="10418" y="15528"/>
                </a:cubicBezTo>
                <a:cubicBezTo>
                  <a:pt x="10491" y="15618"/>
                  <a:pt x="10485" y="15801"/>
                  <a:pt x="10492" y="15900"/>
                </a:cubicBezTo>
                <a:cubicBezTo>
                  <a:pt x="10505" y="16075"/>
                  <a:pt x="10517" y="16245"/>
                  <a:pt x="10517" y="16421"/>
                </a:cubicBezTo>
                <a:cubicBezTo>
                  <a:pt x="10517" y="16643"/>
                  <a:pt x="10485" y="16847"/>
                  <a:pt x="10468" y="17066"/>
                </a:cubicBezTo>
                <a:cubicBezTo>
                  <a:pt x="10451" y="17287"/>
                  <a:pt x="10417" y="17406"/>
                  <a:pt x="10319" y="17611"/>
                </a:cubicBezTo>
                <a:cubicBezTo>
                  <a:pt x="10282" y="17688"/>
                  <a:pt x="10235" y="17819"/>
                  <a:pt x="10170" y="17859"/>
                </a:cubicBezTo>
                <a:cubicBezTo>
                  <a:pt x="10121" y="17889"/>
                  <a:pt x="10005" y="17889"/>
                  <a:pt x="9947" y="17884"/>
                </a:cubicBezTo>
                <a:cubicBezTo>
                  <a:pt x="9846" y="17875"/>
                  <a:pt x="9752" y="17861"/>
                  <a:pt x="9649" y="17859"/>
                </a:cubicBezTo>
                <a:cubicBezTo>
                  <a:pt x="9490" y="17856"/>
                  <a:pt x="9359" y="17846"/>
                  <a:pt x="9203" y="17810"/>
                </a:cubicBezTo>
                <a:cubicBezTo>
                  <a:pt x="9027" y="17769"/>
                  <a:pt x="8855" y="17712"/>
                  <a:pt x="8682" y="17661"/>
                </a:cubicBezTo>
                <a:cubicBezTo>
                  <a:pt x="8368" y="17569"/>
                  <a:pt x="8070" y="17463"/>
                  <a:pt x="7739" y="17438"/>
                </a:cubicBezTo>
                <a:cubicBezTo>
                  <a:pt x="7468" y="17418"/>
                  <a:pt x="7192" y="17412"/>
                  <a:pt x="6921" y="17438"/>
                </a:cubicBezTo>
                <a:cubicBezTo>
                  <a:pt x="6800" y="17450"/>
                  <a:pt x="6689" y="17485"/>
                  <a:pt x="6573" y="17512"/>
                </a:cubicBezTo>
              </a:path>
              <a:path w="3945" h="2432">
                <a:moveTo>
                  <a:pt x="9103" y="16867"/>
                </a:moveTo>
                <a:cubicBezTo>
                  <a:pt x="9165" y="16916"/>
                  <a:pt x="9199" y="16917"/>
                  <a:pt x="9277" y="16917"/>
                </a:cubicBezTo>
                <a:cubicBezTo>
                  <a:pt x="9354" y="16917"/>
                  <a:pt x="9439" y="16906"/>
                  <a:pt x="9500" y="16867"/>
                </a:cubicBezTo>
                <a:cubicBezTo>
                  <a:pt x="9579" y="16816"/>
                  <a:pt x="9655" y="16758"/>
                  <a:pt x="9723" y="16694"/>
                </a:cubicBezTo>
                <a:cubicBezTo>
                  <a:pt x="9779" y="16641"/>
                  <a:pt x="9858" y="16550"/>
                  <a:pt x="9872" y="16470"/>
                </a:cubicBezTo>
                <a:cubicBezTo>
                  <a:pt x="9886" y="16390"/>
                  <a:pt x="9907" y="16190"/>
                  <a:pt x="9823" y="16148"/>
                </a:cubicBezTo>
                <a:cubicBezTo>
                  <a:pt x="9755" y="16114"/>
                  <a:pt x="9662" y="16127"/>
                  <a:pt x="9599" y="16173"/>
                </a:cubicBezTo>
                <a:cubicBezTo>
                  <a:pt x="9525" y="16227"/>
                  <a:pt x="9528" y="16361"/>
                  <a:pt x="9525" y="16446"/>
                </a:cubicBezTo>
                <a:cubicBezTo>
                  <a:pt x="9520" y="16591"/>
                  <a:pt x="9572" y="16750"/>
                  <a:pt x="9599" y="16892"/>
                </a:cubicBezTo>
                <a:cubicBezTo>
                  <a:pt x="9631" y="17058"/>
                  <a:pt x="9651" y="17222"/>
                  <a:pt x="9674" y="17388"/>
                </a:cubicBezTo>
                <a:cubicBezTo>
                  <a:pt x="9682" y="17429"/>
                  <a:pt x="9691" y="17471"/>
                  <a:pt x="9699" y="175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Ink 24"/>
          <p:cNvSpPr/>
          <p:nvPr/>
        </p:nvSpPr>
        <p:spPr>
          <a:xfrm>
            <a:off x="4991040" y="5268960"/>
            <a:ext cx="1527120" cy="687240"/>
          </a:xfrm>
          <a:custGeom>
            <a:avLst/>
            <a:gdLst/>
            <a:ahLst/>
            <a:rect l="l" t="t" r="r" b="b"/>
            <a:pathLst>
              <a:path w="4242" h="1911">
                <a:moveTo>
                  <a:pt x="13866" y="14660"/>
                </a:moveTo>
                <a:cubicBezTo>
                  <a:pt x="13964" y="14630"/>
                  <a:pt x="14058" y="14635"/>
                  <a:pt x="14163" y="14635"/>
                </a:cubicBezTo>
                <a:cubicBezTo>
                  <a:pt x="14280" y="14635"/>
                  <a:pt x="14393" y="14660"/>
                  <a:pt x="14511" y="14660"/>
                </a:cubicBezTo>
              </a:path>
              <a:path w="4242" h="1911">
                <a:moveTo>
                  <a:pt x="14114" y="14858"/>
                </a:moveTo>
                <a:cubicBezTo>
                  <a:pt x="14083" y="14969"/>
                  <a:pt x="14030" y="15124"/>
                  <a:pt x="14015" y="15230"/>
                </a:cubicBezTo>
                <a:cubicBezTo>
                  <a:pt x="14015" y="15255"/>
                  <a:pt x="14015" y="15279"/>
                  <a:pt x="14015" y="15304"/>
                </a:cubicBezTo>
              </a:path>
              <a:path w="4242" h="1911">
                <a:moveTo>
                  <a:pt x="14412" y="14635"/>
                </a:moveTo>
                <a:cubicBezTo>
                  <a:pt x="14380" y="14729"/>
                  <a:pt x="14363" y="14831"/>
                  <a:pt x="14337" y="14932"/>
                </a:cubicBezTo>
                <a:cubicBezTo>
                  <a:pt x="14305" y="15057"/>
                  <a:pt x="14312" y="15176"/>
                  <a:pt x="14312" y="15304"/>
                </a:cubicBezTo>
                <a:cubicBezTo>
                  <a:pt x="14312" y="15413"/>
                  <a:pt x="14314" y="15455"/>
                  <a:pt x="14337" y="15528"/>
                </a:cubicBezTo>
              </a:path>
              <a:path w="4242" h="1911">
                <a:moveTo>
                  <a:pt x="14660" y="15081"/>
                </a:moveTo>
                <a:cubicBezTo>
                  <a:pt x="14786" y="15089"/>
                  <a:pt x="14885" y="15115"/>
                  <a:pt x="15007" y="15081"/>
                </a:cubicBezTo>
              </a:path>
              <a:path w="4242" h="1911">
                <a:moveTo>
                  <a:pt x="15404" y="14684"/>
                </a:moveTo>
                <a:cubicBezTo>
                  <a:pt x="15545" y="14720"/>
                  <a:pt x="15641" y="14745"/>
                  <a:pt x="15677" y="14908"/>
                </a:cubicBezTo>
                <a:cubicBezTo>
                  <a:pt x="15702" y="15023"/>
                  <a:pt x="15673" y="15173"/>
                  <a:pt x="15627" y="15280"/>
                </a:cubicBezTo>
                <a:cubicBezTo>
                  <a:pt x="15574" y="15405"/>
                  <a:pt x="15433" y="15492"/>
                  <a:pt x="15304" y="15528"/>
                </a:cubicBezTo>
                <a:cubicBezTo>
                  <a:pt x="15252" y="15542"/>
                  <a:pt x="15207" y="15546"/>
                  <a:pt x="15156" y="15553"/>
                </a:cubicBezTo>
                <a:cubicBezTo>
                  <a:pt x="15169" y="15445"/>
                  <a:pt x="15186" y="15424"/>
                  <a:pt x="15304" y="15404"/>
                </a:cubicBezTo>
                <a:cubicBezTo>
                  <a:pt x="15410" y="15386"/>
                  <a:pt x="15447" y="15488"/>
                  <a:pt x="15503" y="15553"/>
                </a:cubicBezTo>
                <a:cubicBezTo>
                  <a:pt x="15542" y="15598"/>
                  <a:pt x="15599" y="15639"/>
                  <a:pt x="15652" y="15652"/>
                </a:cubicBezTo>
              </a:path>
              <a:path w="4242" h="1911">
                <a:moveTo>
                  <a:pt x="16148" y="15404"/>
                </a:moveTo>
                <a:cubicBezTo>
                  <a:pt x="16206" y="15437"/>
                  <a:pt x="16263" y="15470"/>
                  <a:pt x="16321" y="15503"/>
                </a:cubicBezTo>
              </a:path>
              <a:path w="4242" h="1911">
                <a:moveTo>
                  <a:pt x="16049" y="15577"/>
                </a:moveTo>
                <a:cubicBezTo>
                  <a:pt x="16201" y="15697"/>
                  <a:pt x="16222" y="15716"/>
                  <a:pt x="16421" y="15726"/>
                </a:cubicBezTo>
              </a:path>
              <a:path w="4242" h="1911">
                <a:moveTo>
                  <a:pt x="16892" y="15032"/>
                </a:moveTo>
                <a:cubicBezTo>
                  <a:pt x="16837" y="15169"/>
                  <a:pt x="16760" y="15303"/>
                  <a:pt x="16743" y="15453"/>
                </a:cubicBezTo>
                <a:cubicBezTo>
                  <a:pt x="16731" y="15564"/>
                  <a:pt x="16741" y="15692"/>
                  <a:pt x="16718" y="15801"/>
                </a:cubicBezTo>
                <a:cubicBezTo>
                  <a:pt x="16705" y="15862"/>
                  <a:pt x="16683" y="15919"/>
                  <a:pt x="16669" y="15974"/>
                </a:cubicBezTo>
              </a:path>
              <a:path w="4242" h="1911">
                <a:moveTo>
                  <a:pt x="16966" y="15900"/>
                </a:moveTo>
                <a:cubicBezTo>
                  <a:pt x="16966" y="15984"/>
                  <a:pt x="16981" y="15935"/>
                  <a:pt x="17016" y="15900"/>
                </a:cubicBezTo>
              </a:path>
              <a:path w="4242" h="1911">
                <a:moveTo>
                  <a:pt x="17512" y="15280"/>
                </a:moveTo>
                <a:cubicBezTo>
                  <a:pt x="17462" y="15379"/>
                  <a:pt x="17423" y="15472"/>
                  <a:pt x="17388" y="15577"/>
                </a:cubicBezTo>
                <a:cubicBezTo>
                  <a:pt x="17352" y="15683"/>
                  <a:pt x="17363" y="15788"/>
                  <a:pt x="17363" y="15900"/>
                </a:cubicBezTo>
              </a:path>
              <a:path w="4242" h="1911">
                <a:moveTo>
                  <a:pt x="17686" y="15205"/>
                </a:moveTo>
                <a:cubicBezTo>
                  <a:pt x="17661" y="15267"/>
                  <a:pt x="17699" y="15329"/>
                  <a:pt x="17711" y="15404"/>
                </a:cubicBezTo>
                <a:cubicBezTo>
                  <a:pt x="17723" y="15480"/>
                  <a:pt x="17729" y="15611"/>
                  <a:pt x="17835" y="15627"/>
                </a:cubicBezTo>
                <a:cubicBezTo>
                  <a:pt x="17851" y="15619"/>
                  <a:pt x="17868" y="15610"/>
                  <a:pt x="17884" y="15602"/>
                </a:cubicBezTo>
              </a:path>
              <a:path w="4242" h="1911">
                <a:moveTo>
                  <a:pt x="18107" y="15007"/>
                </a:moveTo>
                <a:cubicBezTo>
                  <a:pt x="18071" y="15164"/>
                  <a:pt x="18016" y="15323"/>
                  <a:pt x="17983" y="15478"/>
                </a:cubicBezTo>
                <a:cubicBezTo>
                  <a:pt x="17936" y="15698"/>
                  <a:pt x="17939" y="15929"/>
                  <a:pt x="17884" y="16148"/>
                </a:cubicBezTo>
                <a:cubicBezTo>
                  <a:pt x="17823" y="16332"/>
                  <a:pt x="17793" y="16416"/>
                  <a:pt x="17735" y="165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Ink 25"/>
          <p:cNvSpPr/>
          <p:nvPr/>
        </p:nvSpPr>
        <p:spPr>
          <a:xfrm>
            <a:off x="581040" y="1446120"/>
            <a:ext cx="6062760" cy="125640"/>
          </a:xfrm>
          <a:custGeom>
            <a:avLst/>
            <a:gdLst/>
            <a:ahLst/>
            <a:rect l="l" t="t" r="r" b="b"/>
            <a:pathLst>
              <a:path w="16844" h="349">
                <a:moveTo>
                  <a:pt x="1612" y="4217"/>
                </a:moveTo>
                <a:cubicBezTo>
                  <a:pt x="1704" y="4217"/>
                  <a:pt x="1796" y="4217"/>
                  <a:pt x="1885" y="4217"/>
                </a:cubicBezTo>
                <a:cubicBezTo>
                  <a:pt x="2664" y="4217"/>
                  <a:pt x="3447" y="4192"/>
                  <a:pt x="4217" y="4192"/>
                </a:cubicBezTo>
                <a:cubicBezTo>
                  <a:pt x="5169" y="4192"/>
                  <a:pt x="6119" y="4217"/>
                  <a:pt x="7069" y="4217"/>
                </a:cubicBezTo>
                <a:cubicBezTo>
                  <a:pt x="7319" y="4217"/>
                  <a:pt x="7563" y="4204"/>
                  <a:pt x="7813" y="4192"/>
                </a:cubicBezTo>
                <a:cubicBezTo>
                  <a:pt x="8062" y="4181"/>
                  <a:pt x="8308" y="4169"/>
                  <a:pt x="8558" y="4167"/>
                </a:cubicBezTo>
                <a:cubicBezTo>
                  <a:pt x="8760" y="4165"/>
                  <a:pt x="8954" y="4148"/>
                  <a:pt x="9153" y="4142"/>
                </a:cubicBezTo>
                <a:cubicBezTo>
                  <a:pt x="9454" y="4133"/>
                  <a:pt x="9747" y="4164"/>
                  <a:pt x="10046" y="4167"/>
                </a:cubicBezTo>
                <a:cubicBezTo>
                  <a:pt x="10572" y="4172"/>
                  <a:pt x="11090" y="4136"/>
                  <a:pt x="11609" y="4118"/>
                </a:cubicBezTo>
                <a:cubicBezTo>
                  <a:pt x="12282" y="4095"/>
                  <a:pt x="12952" y="4118"/>
                  <a:pt x="13618" y="4068"/>
                </a:cubicBezTo>
                <a:cubicBezTo>
                  <a:pt x="13745" y="4059"/>
                  <a:pt x="13864" y="4053"/>
                  <a:pt x="13990" y="4043"/>
                </a:cubicBezTo>
                <a:cubicBezTo>
                  <a:pt x="14516" y="4003"/>
                  <a:pt x="15055" y="4007"/>
                  <a:pt x="15577" y="4043"/>
                </a:cubicBezTo>
                <a:cubicBezTo>
                  <a:pt x="15762" y="4056"/>
                  <a:pt x="15937" y="4074"/>
                  <a:pt x="16123" y="4093"/>
                </a:cubicBezTo>
                <a:cubicBezTo>
                  <a:pt x="16280" y="4109"/>
                  <a:pt x="16436" y="4126"/>
                  <a:pt x="16594" y="4142"/>
                </a:cubicBezTo>
                <a:cubicBezTo>
                  <a:pt x="16741" y="4157"/>
                  <a:pt x="16894" y="4150"/>
                  <a:pt x="17041" y="4167"/>
                </a:cubicBezTo>
                <a:cubicBezTo>
                  <a:pt x="17173" y="4182"/>
                  <a:pt x="17306" y="4202"/>
                  <a:pt x="17438" y="4217"/>
                </a:cubicBezTo>
                <a:cubicBezTo>
                  <a:pt x="17613" y="4237"/>
                  <a:pt x="17784" y="4266"/>
                  <a:pt x="17959" y="4291"/>
                </a:cubicBezTo>
                <a:cubicBezTo>
                  <a:pt x="18074" y="4308"/>
                  <a:pt x="18190" y="4329"/>
                  <a:pt x="18306" y="4341"/>
                </a:cubicBezTo>
                <a:cubicBezTo>
                  <a:pt x="18369" y="4348"/>
                  <a:pt x="18367" y="4334"/>
                  <a:pt x="18430" y="43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Ink 26"/>
          <p:cNvSpPr/>
          <p:nvPr/>
        </p:nvSpPr>
        <p:spPr>
          <a:xfrm>
            <a:off x="1616040" y="1251000"/>
            <a:ext cx="447840" cy="4651200"/>
          </a:xfrm>
          <a:custGeom>
            <a:avLst/>
            <a:gdLst/>
            <a:ahLst/>
            <a:rect l="l" t="t" r="r" b="b"/>
            <a:pathLst>
              <a:path w="1241" h="12924">
                <a:moveTo>
                  <a:pt x="5730" y="3473"/>
                </a:moveTo>
                <a:cubicBezTo>
                  <a:pt x="5725" y="3684"/>
                  <a:pt x="5712" y="3888"/>
                  <a:pt x="5705" y="4093"/>
                </a:cubicBezTo>
                <a:cubicBezTo>
                  <a:pt x="5689" y="4525"/>
                  <a:pt x="5708" y="4954"/>
                  <a:pt x="5680" y="5383"/>
                </a:cubicBezTo>
                <a:cubicBezTo>
                  <a:pt x="5667" y="5586"/>
                  <a:pt x="5637" y="5798"/>
                  <a:pt x="5631" y="6003"/>
                </a:cubicBezTo>
                <a:cubicBezTo>
                  <a:pt x="5626" y="6180"/>
                  <a:pt x="5620" y="6350"/>
                  <a:pt x="5606" y="6524"/>
                </a:cubicBezTo>
                <a:cubicBezTo>
                  <a:pt x="5595" y="6664"/>
                  <a:pt x="5585" y="6805"/>
                  <a:pt x="5581" y="6945"/>
                </a:cubicBezTo>
                <a:cubicBezTo>
                  <a:pt x="5575" y="7122"/>
                  <a:pt x="5571" y="7291"/>
                  <a:pt x="5556" y="7466"/>
                </a:cubicBezTo>
                <a:cubicBezTo>
                  <a:pt x="5541" y="7649"/>
                  <a:pt x="5541" y="7829"/>
                  <a:pt x="5531" y="8012"/>
                </a:cubicBezTo>
                <a:cubicBezTo>
                  <a:pt x="5517" y="8264"/>
                  <a:pt x="5506" y="8532"/>
                  <a:pt x="5482" y="8781"/>
                </a:cubicBezTo>
                <a:cubicBezTo>
                  <a:pt x="5461" y="8997"/>
                  <a:pt x="5425" y="9210"/>
                  <a:pt x="5407" y="9426"/>
                </a:cubicBezTo>
                <a:cubicBezTo>
                  <a:pt x="5379" y="9756"/>
                  <a:pt x="5351" y="10089"/>
                  <a:pt x="5308" y="10418"/>
                </a:cubicBezTo>
                <a:cubicBezTo>
                  <a:pt x="5232" y="11002"/>
                  <a:pt x="5143" y="11607"/>
                  <a:pt x="5011" y="12179"/>
                </a:cubicBezTo>
                <a:cubicBezTo>
                  <a:pt x="4971" y="12353"/>
                  <a:pt x="4924" y="12528"/>
                  <a:pt x="4887" y="12700"/>
                </a:cubicBezTo>
                <a:cubicBezTo>
                  <a:pt x="4870" y="12780"/>
                  <a:pt x="4855" y="12866"/>
                  <a:pt x="4837" y="12948"/>
                </a:cubicBezTo>
                <a:cubicBezTo>
                  <a:pt x="4814" y="13054"/>
                  <a:pt x="4777" y="13163"/>
                  <a:pt x="4762" y="13271"/>
                </a:cubicBezTo>
                <a:cubicBezTo>
                  <a:pt x="4745" y="13393"/>
                  <a:pt x="4750" y="13521"/>
                  <a:pt x="4738" y="13643"/>
                </a:cubicBezTo>
                <a:cubicBezTo>
                  <a:pt x="4727" y="13757"/>
                  <a:pt x="4729" y="13876"/>
                  <a:pt x="4713" y="13990"/>
                </a:cubicBezTo>
                <a:cubicBezTo>
                  <a:pt x="4694" y="14122"/>
                  <a:pt x="4678" y="14253"/>
                  <a:pt x="4663" y="14387"/>
                </a:cubicBezTo>
                <a:cubicBezTo>
                  <a:pt x="4647" y="14536"/>
                  <a:pt x="4630" y="14684"/>
                  <a:pt x="4614" y="14833"/>
                </a:cubicBezTo>
                <a:cubicBezTo>
                  <a:pt x="4593" y="15022"/>
                  <a:pt x="4563" y="15214"/>
                  <a:pt x="4539" y="15404"/>
                </a:cubicBezTo>
                <a:cubicBezTo>
                  <a:pt x="4519" y="15561"/>
                  <a:pt x="4525" y="15717"/>
                  <a:pt x="4514" y="15875"/>
                </a:cubicBezTo>
                <a:cubicBezTo>
                  <a:pt x="4502" y="16048"/>
                  <a:pt x="4494" y="16220"/>
                  <a:pt x="4490" y="163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Ink 27"/>
          <p:cNvSpPr/>
          <p:nvPr/>
        </p:nvSpPr>
        <p:spPr>
          <a:xfrm>
            <a:off x="4902120" y="1419120"/>
            <a:ext cx="3760920" cy="144720"/>
          </a:xfrm>
          <a:custGeom>
            <a:avLst/>
            <a:gdLst/>
            <a:ahLst/>
            <a:rect l="l" t="t" r="r" b="b"/>
            <a:pathLst>
              <a:path w="10444" h="398">
                <a:moveTo>
                  <a:pt x="13618" y="4068"/>
                </a:moveTo>
                <a:cubicBezTo>
                  <a:pt x="13692" y="4065"/>
                  <a:pt x="13774" y="4046"/>
                  <a:pt x="13841" y="4043"/>
                </a:cubicBezTo>
                <a:cubicBezTo>
                  <a:pt x="14494" y="4016"/>
                  <a:pt x="15148" y="4068"/>
                  <a:pt x="15801" y="4068"/>
                </a:cubicBezTo>
                <a:cubicBezTo>
                  <a:pt x="16200" y="4068"/>
                  <a:pt x="16595" y="4047"/>
                  <a:pt x="16991" y="4043"/>
                </a:cubicBezTo>
                <a:cubicBezTo>
                  <a:pt x="17185" y="4041"/>
                  <a:pt x="17370" y="4025"/>
                  <a:pt x="17562" y="4018"/>
                </a:cubicBezTo>
                <a:cubicBezTo>
                  <a:pt x="17786" y="4010"/>
                  <a:pt x="18008" y="4002"/>
                  <a:pt x="18231" y="3994"/>
                </a:cubicBezTo>
                <a:cubicBezTo>
                  <a:pt x="18382" y="3988"/>
                  <a:pt x="18528" y="3974"/>
                  <a:pt x="18678" y="3969"/>
                </a:cubicBezTo>
                <a:cubicBezTo>
                  <a:pt x="19079" y="3954"/>
                  <a:pt x="19470" y="3964"/>
                  <a:pt x="19869" y="3969"/>
                </a:cubicBezTo>
                <a:cubicBezTo>
                  <a:pt x="20103" y="3972"/>
                  <a:pt x="20331" y="3986"/>
                  <a:pt x="20563" y="3994"/>
                </a:cubicBezTo>
                <a:cubicBezTo>
                  <a:pt x="21202" y="4017"/>
                  <a:pt x="21870" y="3994"/>
                  <a:pt x="22498" y="4093"/>
                </a:cubicBezTo>
                <a:cubicBezTo>
                  <a:pt x="22652" y="4117"/>
                  <a:pt x="22789" y="4129"/>
                  <a:pt x="22944" y="4142"/>
                </a:cubicBezTo>
                <a:cubicBezTo>
                  <a:pt x="23128" y="4158"/>
                  <a:pt x="23310" y="4188"/>
                  <a:pt x="23490" y="4217"/>
                </a:cubicBezTo>
                <a:cubicBezTo>
                  <a:pt x="23631" y="4240"/>
                  <a:pt x="23774" y="4268"/>
                  <a:pt x="23912" y="4291"/>
                </a:cubicBezTo>
                <a:cubicBezTo>
                  <a:pt x="23962" y="4299"/>
                  <a:pt x="24036" y="4312"/>
                  <a:pt x="24061" y="43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Ink 28"/>
          <p:cNvSpPr/>
          <p:nvPr/>
        </p:nvSpPr>
        <p:spPr>
          <a:xfrm>
            <a:off x="4759200" y="1214280"/>
            <a:ext cx="285840" cy="4803840"/>
          </a:xfrm>
          <a:custGeom>
            <a:avLst/>
            <a:gdLst/>
            <a:ahLst/>
            <a:rect l="l" t="t" r="r" b="b"/>
            <a:pathLst>
              <a:path w="795" h="13346">
                <a:moveTo>
                  <a:pt x="13791" y="3373"/>
                </a:moveTo>
                <a:cubicBezTo>
                  <a:pt x="13818" y="3442"/>
                  <a:pt x="13838" y="3505"/>
                  <a:pt x="13866" y="3572"/>
                </a:cubicBezTo>
                <a:cubicBezTo>
                  <a:pt x="13950" y="3772"/>
                  <a:pt x="13995" y="3949"/>
                  <a:pt x="14015" y="4167"/>
                </a:cubicBezTo>
                <a:cubicBezTo>
                  <a:pt x="14109" y="5186"/>
                  <a:pt x="13990" y="6258"/>
                  <a:pt x="13915" y="7268"/>
                </a:cubicBezTo>
                <a:cubicBezTo>
                  <a:pt x="13898" y="7491"/>
                  <a:pt x="13882" y="7715"/>
                  <a:pt x="13866" y="7938"/>
                </a:cubicBezTo>
                <a:cubicBezTo>
                  <a:pt x="13840" y="8293"/>
                  <a:pt x="13814" y="8648"/>
                  <a:pt x="13791" y="9004"/>
                </a:cubicBezTo>
                <a:cubicBezTo>
                  <a:pt x="13761" y="9468"/>
                  <a:pt x="13699" y="9929"/>
                  <a:pt x="13667" y="10393"/>
                </a:cubicBezTo>
                <a:cubicBezTo>
                  <a:pt x="13647" y="10674"/>
                  <a:pt x="13638" y="10956"/>
                  <a:pt x="13618" y="11237"/>
                </a:cubicBezTo>
                <a:cubicBezTo>
                  <a:pt x="13592" y="11603"/>
                  <a:pt x="13582" y="11963"/>
                  <a:pt x="13543" y="12328"/>
                </a:cubicBezTo>
                <a:cubicBezTo>
                  <a:pt x="13511" y="12630"/>
                  <a:pt x="13484" y="12942"/>
                  <a:pt x="13469" y="13246"/>
                </a:cubicBezTo>
                <a:cubicBezTo>
                  <a:pt x="13453" y="13570"/>
                  <a:pt x="13440" y="13889"/>
                  <a:pt x="13419" y="14213"/>
                </a:cubicBezTo>
                <a:cubicBezTo>
                  <a:pt x="13387" y="14726"/>
                  <a:pt x="13354" y="15239"/>
                  <a:pt x="13320" y="15751"/>
                </a:cubicBezTo>
                <a:cubicBezTo>
                  <a:pt x="13301" y="16034"/>
                  <a:pt x="13283" y="16313"/>
                  <a:pt x="13246" y="16594"/>
                </a:cubicBezTo>
                <a:cubicBezTo>
                  <a:pt x="13238" y="16635"/>
                  <a:pt x="13229" y="16677"/>
                  <a:pt x="13221" y="167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Ink 29"/>
          <p:cNvSpPr/>
          <p:nvPr/>
        </p:nvSpPr>
        <p:spPr>
          <a:xfrm>
            <a:off x="544680" y="2554200"/>
            <a:ext cx="7707240" cy="258840"/>
          </a:xfrm>
          <a:custGeom>
            <a:avLst/>
            <a:gdLst/>
            <a:ahLst/>
            <a:rect l="l" t="t" r="r" b="b"/>
            <a:pathLst>
              <a:path w="21408" h="720">
                <a:moveTo>
                  <a:pt x="1513" y="7119"/>
                </a:moveTo>
                <a:cubicBezTo>
                  <a:pt x="1888" y="7119"/>
                  <a:pt x="2261" y="7150"/>
                  <a:pt x="2629" y="7144"/>
                </a:cubicBezTo>
                <a:cubicBezTo>
                  <a:pt x="2839" y="7141"/>
                  <a:pt x="3036" y="7121"/>
                  <a:pt x="3249" y="7119"/>
                </a:cubicBezTo>
                <a:cubicBezTo>
                  <a:pt x="4112" y="7113"/>
                  <a:pt x="4970" y="7101"/>
                  <a:pt x="5829" y="7119"/>
                </a:cubicBezTo>
                <a:cubicBezTo>
                  <a:pt x="6203" y="7127"/>
                  <a:pt x="6573" y="7128"/>
                  <a:pt x="6945" y="7144"/>
                </a:cubicBezTo>
                <a:cubicBezTo>
                  <a:pt x="7499" y="7167"/>
                  <a:pt x="8054" y="7208"/>
                  <a:pt x="8607" y="7218"/>
                </a:cubicBezTo>
                <a:cubicBezTo>
                  <a:pt x="9038" y="7226"/>
                  <a:pt x="9466" y="7256"/>
                  <a:pt x="9897" y="7243"/>
                </a:cubicBezTo>
                <a:cubicBezTo>
                  <a:pt x="10458" y="7226"/>
                  <a:pt x="11022" y="7197"/>
                  <a:pt x="11584" y="7193"/>
                </a:cubicBezTo>
                <a:cubicBezTo>
                  <a:pt x="12090" y="7189"/>
                  <a:pt x="12591" y="7172"/>
                  <a:pt x="13097" y="7169"/>
                </a:cubicBezTo>
                <a:cubicBezTo>
                  <a:pt x="13568" y="7166"/>
                  <a:pt x="14041" y="7171"/>
                  <a:pt x="14511" y="7193"/>
                </a:cubicBezTo>
                <a:cubicBezTo>
                  <a:pt x="14859" y="7210"/>
                  <a:pt x="15207" y="7221"/>
                  <a:pt x="15553" y="7243"/>
                </a:cubicBezTo>
                <a:cubicBezTo>
                  <a:pt x="15825" y="7260"/>
                  <a:pt x="16099" y="7271"/>
                  <a:pt x="16371" y="7293"/>
                </a:cubicBezTo>
                <a:cubicBezTo>
                  <a:pt x="16585" y="7310"/>
                  <a:pt x="16802" y="7323"/>
                  <a:pt x="17016" y="7342"/>
                </a:cubicBezTo>
                <a:cubicBezTo>
                  <a:pt x="17215" y="7360"/>
                  <a:pt x="17413" y="7394"/>
                  <a:pt x="17611" y="7417"/>
                </a:cubicBezTo>
                <a:cubicBezTo>
                  <a:pt x="18031" y="7465"/>
                  <a:pt x="18454" y="7483"/>
                  <a:pt x="18876" y="7491"/>
                </a:cubicBezTo>
                <a:cubicBezTo>
                  <a:pt x="19283" y="7499"/>
                  <a:pt x="19686" y="7499"/>
                  <a:pt x="20092" y="7516"/>
                </a:cubicBezTo>
                <a:cubicBezTo>
                  <a:pt x="20273" y="7524"/>
                  <a:pt x="20457" y="7525"/>
                  <a:pt x="20638" y="7541"/>
                </a:cubicBezTo>
                <a:cubicBezTo>
                  <a:pt x="20810" y="7556"/>
                  <a:pt x="20987" y="7589"/>
                  <a:pt x="21158" y="7615"/>
                </a:cubicBezTo>
                <a:cubicBezTo>
                  <a:pt x="21645" y="7689"/>
                  <a:pt x="22183" y="7822"/>
                  <a:pt x="22671" y="7813"/>
                </a:cubicBezTo>
                <a:cubicBezTo>
                  <a:pt x="22774" y="7811"/>
                  <a:pt x="22767" y="7770"/>
                  <a:pt x="22870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Ink 30"/>
          <p:cNvSpPr/>
          <p:nvPr/>
        </p:nvSpPr>
        <p:spPr>
          <a:xfrm>
            <a:off x="517680" y="3106800"/>
            <a:ext cx="7197480" cy="617400"/>
          </a:xfrm>
          <a:custGeom>
            <a:avLst/>
            <a:gdLst/>
            <a:ahLst/>
            <a:rect l="l" t="t" r="r" b="b"/>
            <a:pathLst>
              <a:path w="19993" h="1713">
                <a:moveTo>
                  <a:pt x="1439" y="8632"/>
                </a:moveTo>
                <a:cubicBezTo>
                  <a:pt x="1505" y="8647"/>
                  <a:pt x="1570" y="8667"/>
                  <a:pt x="1637" y="8682"/>
                </a:cubicBezTo>
                <a:cubicBezTo>
                  <a:pt x="1718" y="8700"/>
                  <a:pt x="1803" y="8714"/>
                  <a:pt x="1885" y="8731"/>
                </a:cubicBezTo>
                <a:cubicBezTo>
                  <a:pt x="1984" y="8752"/>
                  <a:pt x="2082" y="8767"/>
                  <a:pt x="2183" y="8781"/>
                </a:cubicBezTo>
                <a:cubicBezTo>
                  <a:pt x="2306" y="8799"/>
                  <a:pt x="2431" y="8813"/>
                  <a:pt x="2555" y="8830"/>
                </a:cubicBezTo>
                <a:cubicBezTo>
                  <a:pt x="2731" y="8854"/>
                  <a:pt x="2899" y="8867"/>
                  <a:pt x="3076" y="8880"/>
                </a:cubicBezTo>
                <a:cubicBezTo>
                  <a:pt x="3282" y="8895"/>
                  <a:pt x="3489" y="8918"/>
                  <a:pt x="3696" y="8930"/>
                </a:cubicBezTo>
                <a:cubicBezTo>
                  <a:pt x="3847" y="8939"/>
                  <a:pt x="3992" y="8944"/>
                  <a:pt x="4142" y="8954"/>
                </a:cubicBezTo>
                <a:cubicBezTo>
                  <a:pt x="4293" y="8964"/>
                  <a:pt x="4440" y="8990"/>
                  <a:pt x="4589" y="9004"/>
                </a:cubicBezTo>
                <a:cubicBezTo>
                  <a:pt x="4755" y="9019"/>
                  <a:pt x="4919" y="9033"/>
                  <a:pt x="5085" y="9054"/>
                </a:cubicBezTo>
                <a:cubicBezTo>
                  <a:pt x="5430" y="9098"/>
                  <a:pt x="5783" y="9129"/>
                  <a:pt x="6127" y="9178"/>
                </a:cubicBezTo>
                <a:cubicBezTo>
                  <a:pt x="6501" y="9231"/>
                  <a:pt x="6868" y="9319"/>
                  <a:pt x="7243" y="9351"/>
                </a:cubicBezTo>
                <a:cubicBezTo>
                  <a:pt x="7450" y="9369"/>
                  <a:pt x="7656" y="9379"/>
                  <a:pt x="7863" y="9401"/>
                </a:cubicBezTo>
                <a:cubicBezTo>
                  <a:pt x="8234" y="9441"/>
                  <a:pt x="8607" y="9477"/>
                  <a:pt x="8979" y="9500"/>
                </a:cubicBezTo>
                <a:cubicBezTo>
                  <a:pt x="9203" y="9514"/>
                  <a:pt x="9424" y="9522"/>
                  <a:pt x="9649" y="9525"/>
                </a:cubicBezTo>
                <a:cubicBezTo>
                  <a:pt x="10625" y="9540"/>
                  <a:pt x="11602" y="9555"/>
                  <a:pt x="12576" y="9575"/>
                </a:cubicBezTo>
                <a:cubicBezTo>
                  <a:pt x="12817" y="9580"/>
                  <a:pt x="13055" y="9584"/>
                  <a:pt x="13295" y="9599"/>
                </a:cubicBezTo>
                <a:cubicBezTo>
                  <a:pt x="13651" y="9621"/>
                  <a:pt x="14008" y="9659"/>
                  <a:pt x="14362" y="9699"/>
                </a:cubicBezTo>
                <a:cubicBezTo>
                  <a:pt x="14603" y="9726"/>
                  <a:pt x="14841" y="9746"/>
                  <a:pt x="15081" y="9773"/>
                </a:cubicBezTo>
                <a:cubicBezTo>
                  <a:pt x="15867" y="9863"/>
                  <a:pt x="16655" y="9952"/>
                  <a:pt x="17438" y="10046"/>
                </a:cubicBezTo>
                <a:cubicBezTo>
                  <a:pt x="17671" y="10074"/>
                  <a:pt x="17899" y="10098"/>
                  <a:pt x="18132" y="10120"/>
                </a:cubicBezTo>
                <a:cubicBezTo>
                  <a:pt x="18471" y="10153"/>
                  <a:pt x="18809" y="10176"/>
                  <a:pt x="19149" y="10220"/>
                </a:cubicBezTo>
                <a:cubicBezTo>
                  <a:pt x="19371" y="10249"/>
                  <a:pt x="19596" y="10281"/>
                  <a:pt x="19819" y="10294"/>
                </a:cubicBezTo>
                <a:cubicBezTo>
                  <a:pt x="20042" y="10307"/>
                  <a:pt x="20266" y="10307"/>
                  <a:pt x="20489" y="10319"/>
                </a:cubicBezTo>
                <a:cubicBezTo>
                  <a:pt x="20672" y="10329"/>
                  <a:pt x="20849" y="10345"/>
                  <a:pt x="21034" y="10344"/>
                </a:cubicBezTo>
                <a:cubicBezTo>
                  <a:pt x="21172" y="10343"/>
                  <a:pt x="21310" y="10284"/>
                  <a:pt x="21431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Ink 31"/>
          <p:cNvSpPr/>
          <p:nvPr/>
        </p:nvSpPr>
        <p:spPr>
          <a:xfrm>
            <a:off x="384120" y="4537080"/>
            <a:ext cx="6653160" cy="803160"/>
          </a:xfrm>
          <a:custGeom>
            <a:avLst/>
            <a:gdLst/>
            <a:ahLst/>
            <a:rect l="l" t="t" r="r" b="b"/>
            <a:pathLst>
              <a:path w="18480" h="2233">
                <a:moveTo>
                  <a:pt x="1067" y="12601"/>
                </a:moveTo>
                <a:cubicBezTo>
                  <a:pt x="1241" y="12650"/>
                  <a:pt x="1384" y="12691"/>
                  <a:pt x="1563" y="12725"/>
                </a:cubicBezTo>
                <a:cubicBezTo>
                  <a:pt x="1662" y="12744"/>
                  <a:pt x="1761" y="12757"/>
                  <a:pt x="1860" y="12774"/>
                </a:cubicBezTo>
                <a:cubicBezTo>
                  <a:pt x="2002" y="12798"/>
                  <a:pt x="2137" y="12833"/>
                  <a:pt x="2282" y="12849"/>
                </a:cubicBezTo>
                <a:cubicBezTo>
                  <a:pt x="2415" y="12864"/>
                  <a:pt x="2548" y="12884"/>
                  <a:pt x="2679" y="12898"/>
                </a:cubicBezTo>
                <a:cubicBezTo>
                  <a:pt x="2810" y="12911"/>
                  <a:pt x="2945" y="12913"/>
                  <a:pt x="3076" y="12923"/>
                </a:cubicBezTo>
                <a:cubicBezTo>
                  <a:pt x="3218" y="12934"/>
                  <a:pt x="3356" y="12960"/>
                  <a:pt x="3497" y="12973"/>
                </a:cubicBezTo>
                <a:cubicBezTo>
                  <a:pt x="3647" y="12987"/>
                  <a:pt x="3794" y="13007"/>
                  <a:pt x="3944" y="13022"/>
                </a:cubicBezTo>
                <a:cubicBezTo>
                  <a:pt x="4084" y="13036"/>
                  <a:pt x="4228" y="13059"/>
                  <a:pt x="4366" y="13072"/>
                </a:cubicBezTo>
                <a:cubicBezTo>
                  <a:pt x="4749" y="13108"/>
                  <a:pt x="5125" y="13146"/>
                  <a:pt x="5507" y="13196"/>
                </a:cubicBezTo>
                <a:cubicBezTo>
                  <a:pt x="5680" y="13219"/>
                  <a:pt x="5854" y="13255"/>
                  <a:pt x="6028" y="13271"/>
                </a:cubicBezTo>
                <a:cubicBezTo>
                  <a:pt x="6210" y="13288"/>
                  <a:pt x="6391" y="13297"/>
                  <a:pt x="6573" y="13320"/>
                </a:cubicBezTo>
                <a:cubicBezTo>
                  <a:pt x="6813" y="13350"/>
                  <a:pt x="7052" y="13387"/>
                  <a:pt x="7293" y="13419"/>
                </a:cubicBezTo>
                <a:cubicBezTo>
                  <a:pt x="7587" y="13457"/>
                  <a:pt x="7890" y="13473"/>
                  <a:pt x="8186" y="13494"/>
                </a:cubicBezTo>
                <a:cubicBezTo>
                  <a:pt x="8409" y="13510"/>
                  <a:pt x="8632" y="13526"/>
                  <a:pt x="8855" y="13543"/>
                </a:cubicBezTo>
                <a:cubicBezTo>
                  <a:pt x="9136" y="13564"/>
                  <a:pt x="9416" y="13595"/>
                  <a:pt x="9699" y="13618"/>
                </a:cubicBezTo>
                <a:cubicBezTo>
                  <a:pt x="9939" y="13637"/>
                  <a:pt x="10178" y="13650"/>
                  <a:pt x="10418" y="13667"/>
                </a:cubicBezTo>
                <a:cubicBezTo>
                  <a:pt x="10707" y="13687"/>
                  <a:pt x="10997" y="13699"/>
                  <a:pt x="11286" y="13717"/>
                </a:cubicBezTo>
                <a:cubicBezTo>
                  <a:pt x="11527" y="13732"/>
                  <a:pt x="11764" y="13769"/>
                  <a:pt x="12005" y="13791"/>
                </a:cubicBezTo>
                <a:cubicBezTo>
                  <a:pt x="12377" y="13825"/>
                  <a:pt x="12750" y="13863"/>
                  <a:pt x="13122" y="13891"/>
                </a:cubicBezTo>
                <a:cubicBezTo>
                  <a:pt x="13434" y="13914"/>
                  <a:pt x="13754" y="13918"/>
                  <a:pt x="14064" y="13965"/>
                </a:cubicBezTo>
                <a:cubicBezTo>
                  <a:pt x="14553" y="14040"/>
                  <a:pt x="15040" y="14126"/>
                  <a:pt x="15528" y="14213"/>
                </a:cubicBezTo>
                <a:cubicBezTo>
                  <a:pt x="15894" y="14278"/>
                  <a:pt x="16256" y="14335"/>
                  <a:pt x="16619" y="14412"/>
                </a:cubicBezTo>
                <a:cubicBezTo>
                  <a:pt x="16972" y="14487"/>
                  <a:pt x="17329" y="14549"/>
                  <a:pt x="17686" y="14610"/>
                </a:cubicBezTo>
                <a:cubicBezTo>
                  <a:pt x="17975" y="14660"/>
                  <a:pt x="18266" y="14697"/>
                  <a:pt x="18554" y="14734"/>
                </a:cubicBezTo>
                <a:cubicBezTo>
                  <a:pt x="18719" y="14755"/>
                  <a:pt x="18885" y="14798"/>
                  <a:pt x="19050" y="14808"/>
                </a:cubicBezTo>
                <a:cubicBezTo>
                  <a:pt x="19209" y="14817"/>
                  <a:pt x="19322" y="14813"/>
                  <a:pt x="19472" y="14808"/>
                </a:cubicBezTo>
                <a:cubicBezTo>
                  <a:pt x="19497" y="14800"/>
                  <a:pt x="19521" y="14792"/>
                  <a:pt x="19546" y="147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 find complementary angle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685800" y="1905120"/>
            <a:ext cx="74674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btract from 90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90° - 50°= 40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btract from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2-  (get a common denominator!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2 –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8 = 4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8 –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8 = 3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/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f the result is negative, there is no complement!!!!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 find Supplementary Ang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990720" y="1828800"/>
            <a:ext cx="754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tract from 180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80° - 50° = 130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)  Subtract from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(get a common denominat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/8 = 8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/8 –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/8 = 7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π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/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Lesson 4.2</a:t>
            </a:r>
            <a:br>
              <a:rPr sz="8500"/>
            </a:b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Unit Circl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 circle on a coordinate graph with its center at the origin and having a radius of on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ow can we remember the unit circl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cc"/>
                </a:solidFill>
                <a:latin typeface="Arial"/>
              </a:rPr>
              <a:t>Homework:</a:t>
            </a:r>
            <a:br>
              <a:rPr sz="4000"/>
            </a:b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Spend time getting to know the unit circle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43:30Z</dcterms:created>
  <dc:creator>jnewman</dc:creator>
  <dc:description/>
  <dc:language>en-US</dc:language>
  <cp:lastModifiedBy>abeason</cp:lastModifiedBy>
  <dcterms:modified xsi:type="dcterms:W3CDTF">2009-09-18T15:31:24Z</dcterms:modified>
  <cp:revision>24</cp:revision>
  <dc:subject/>
  <dc:title>Lesson 4.2 part one</dc:title>
</cp:coreProperties>
</file>